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4C5D0-6ED3-41D3-9B19-B62B4D0E0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Judges are not used to i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ne should realize that when we speak about digital evidence and the presentation of a cybercrime case before a court, that even today this still seems new for most prosecutors and judges. So we have to be careful. A lot of effort is put in the training of police people, prosecutors, lawyers and judges to be able to handle cybercrime cases and electronic evidence. Not only is this organized on a national level, but also on a international and European level (reason why we are her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Unfortunately we know that today the fact that a cybercrime case was investigated by trained and specialized police, doesn’t mean that the case will be brought to court by a specialized public prosecutor or treated by a specialized judg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Most magistrates were trained in a non digital era and even when they are great lawyers they may not have a clue where the digital evidence came from, how it can be collected and in brief  how a computer or the internet work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f course defence lawyers will try to take advantage of this situation.</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But besides the problems that might occur related to the persons who treat these cybercrime cases, problems that can be solved by the way the case is presented in court (see further on), the digital evidence itself should be treated in a special way before cour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This has everything to do with the characteristics of the digital evidenc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The use of digital evidence in court proceeding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electronic evidence has increased in the past few years as courts have admitted electronic evidence in the form of e-mails, digital photographs, ATM transaction logs, word processing documents, instant messages, spreadsheets, Internet browser histories, databases, the contents of computer memory, computer backups, computer printouts and digital video and audio files – all of which constitute digital data.</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gital device involved in crime should be secured just as you would with other forms of physical evidence to be found at a crime scene, because all such devices remain physical evidence. As with fingerprint and DNA evidence, </a:t>
            </a:r>
            <a:r>
              <a:rPr b="1" lang="en-US" sz="800" spc="-1" strike="noStrike">
                <a:solidFill>
                  <a:srgbClr val="000000"/>
                </a:solidFill>
                <a:latin typeface="Calibri"/>
              </a:rPr>
              <a:t>digital evidence is fragile and easily lost or altered if appropriate precautions are not followed</a:t>
            </a:r>
            <a:r>
              <a:rPr b="0" lang="en-US" sz="800" spc="-1" strike="noStrike">
                <a:solidFill>
                  <a:srgbClr val="000000"/>
                </a:solidFill>
                <a:latin typeface="Calibri"/>
              </a:rPr>
              <a:t>. In the early days of dealing with digital evidence, untrained members of law enforcement switched on computers to look for evidence before submitting them for a forensic examination.</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mportant to record where the digital device was found and seized, because it can reveal a great deal about the intent of the suspected offender. It is good practice </a:t>
            </a:r>
            <a:r>
              <a:rPr b="1" lang="en-US" sz="800" spc="-1" strike="noStrike">
                <a:solidFill>
                  <a:srgbClr val="000000"/>
                </a:solidFill>
                <a:latin typeface="Calibri"/>
              </a:rPr>
              <a:t>to record the search and seizure by video</a:t>
            </a:r>
            <a:r>
              <a:rPr b="0" lang="en-US" sz="800" spc="-1" strike="noStrike">
                <a:solidFill>
                  <a:srgbClr val="000000"/>
                </a:solidFill>
                <a:latin typeface="Calibri"/>
              </a:rPr>
              <a:t>. This will show the position of digital devices, so that there is no longer an argument, for instance, as to whether the wireless device was found hidden in the loft rather than in an open access area in the sitting room.</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u="sng">
                <a:solidFill>
                  <a:srgbClr val="1f497d"/>
                </a:solidFill>
                <a:uFillTx/>
                <a:latin typeface="Calibri"/>
              </a:rPr>
              <a:t>Triple A</a:t>
            </a:r>
            <a:r>
              <a:rPr b="1" lang="en-US" sz="700" spc="-1" strike="noStrike" u="sng">
                <a:solidFill>
                  <a:srgbClr val="000000"/>
                </a:solidFill>
                <a:uFillTx/>
                <a:latin typeface="Calibri"/>
              </a:rPr>
              <a:t> quality is mandatory</a:t>
            </a:r>
            <a:endParaRPr b="0" lang="en-US" sz="7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dmissibility</a:t>
            </a: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puter Evidence is admissible if it </a:t>
            </a:r>
            <a:r>
              <a:rPr b="1" lang="en-US" sz="800" spc="-1" strike="noStrike">
                <a:solidFill>
                  <a:srgbClr val="000000"/>
                </a:solidFill>
                <a:latin typeface="Calibri"/>
              </a:rPr>
              <a:t>conforms to a series of laws and rules that ensure it is acceptable to the court</a:t>
            </a:r>
            <a:r>
              <a:rPr b="0" lang="en-US" sz="800" spc="-1" strike="noStrike">
                <a:solidFill>
                  <a:srgbClr val="000000"/>
                </a:solidFill>
                <a:latin typeface="Calibri"/>
              </a:rPr>
              <a:t>. The proper procedures must be followed when obtaining evidence. These are articulated in the chapters 4, 5 and 6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igital evidence in criminal trials must be admissible, authentic, accurate and complete. It must conform to a series of laws and rules and be acceptable to the cour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reviewing the case, the prosecutor will consider if it is possible to explicitly </a:t>
            </a:r>
            <a:r>
              <a:rPr b="1" lang="en-US" sz="800" spc="-1" strike="noStrike" u="sng">
                <a:solidFill>
                  <a:srgbClr val="000000"/>
                </a:solidFill>
                <a:uFillTx/>
                <a:latin typeface="Calibri"/>
              </a:rPr>
              <a:t>link</a:t>
            </a:r>
            <a:r>
              <a:rPr b="1" lang="en-US" sz="800" spc="-1" strike="noStrike">
                <a:solidFill>
                  <a:srgbClr val="000000"/>
                </a:solidFill>
                <a:latin typeface="Calibri"/>
              </a:rPr>
              <a:t> files, data to specific individuals and events, and </a:t>
            </a:r>
            <a:r>
              <a:rPr b="1" lang="en-US" sz="800" spc="-1" strike="noStrike" u="sng">
                <a:solidFill>
                  <a:srgbClr val="000000"/>
                </a:solidFill>
                <a:uFillTx/>
                <a:latin typeface="Calibri"/>
              </a:rPr>
              <a:t>explain</a:t>
            </a:r>
            <a:r>
              <a:rPr b="1" lang="en-US" sz="800" spc="-1" strike="noStrike">
                <a:solidFill>
                  <a:srgbClr val="000000"/>
                </a:solidFill>
                <a:latin typeface="Calibri"/>
              </a:rPr>
              <a:t> how an exhibit came into being by showing </a:t>
            </a:r>
            <a:r>
              <a:rPr b="1" lang="en-US" sz="800" spc="-1" strike="noStrike" u="sng">
                <a:solidFill>
                  <a:srgbClr val="000000"/>
                </a:solidFill>
                <a:uFillTx/>
                <a:latin typeface="Calibri"/>
              </a:rPr>
              <a:t>an unbroken continuity of evidence</a:t>
            </a:r>
            <a:r>
              <a:rPr b="1" lang="en-US" sz="800" spc="-1" strike="noStrike">
                <a:solidFill>
                  <a:srgbClr val="000000"/>
                </a:solidFill>
                <a:latin typeface="Calibri"/>
              </a:rPr>
              <a:t>, thereby upholding </a:t>
            </a:r>
            <a:r>
              <a:rPr b="1" lang="en-US" sz="800" spc="-1" strike="noStrike" u="sng">
                <a:solidFill>
                  <a:srgbClr val="000000"/>
                </a:solidFill>
                <a:uFillTx/>
                <a:latin typeface="Calibri"/>
              </a:rPr>
              <a:t>the chain of evidence</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uring criminal trials, the prosecutor must use evidence to prove the case ‘</a:t>
            </a:r>
            <a:r>
              <a:rPr b="1" lang="en-US" sz="800" spc="-1" strike="noStrike">
                <a:solidFill>
                  <a:srgbClr val="000000"/>
                </a:solidFill>
                <a:latin typeface="Calibri"/>
              </a:rPr>
              <a:t>beyond reasonable doubt</a:t>
            </a:r>
            <a:r>
              <a:rPr b="0" lang="en-US" sz="800" spc="-1" strike="noStrike">
                <a:solidFill>
                  <a:srgbClr val="000000"/>
                </a:solidFill>
                <a:latin typeface="Calibri"/>
              </a:rPr>
              <a:t>’. As part of the rules of evidence, the court is always entitled to be presented with the best evidence. Traditionally, best evidence was the </a:t>
            </a:r>
            <a:r>
              <a:rPr b="1" lang="en-US" sz="800" spc="-1" strike="noStrike">
                <a:solidFill>
                  <a:srgbClr val="000000"/>
                </a:solidFill>
                <a:latin typeface="Calibri"/>
              </a:rPr>
              <a:t>original</a:t>
            </a:r>
            <a:r>
              <a:rPr b="0" lang="en-US" sz="800" spc="-1" strike="noStrike">
                <a:solidFill>
                  <a:srgbClr val="000000"/>
                </a:solidFill>
                <a:latin typeface="Calibri"/>
              </a:rPr>
              <a:t> document, but under certain circumstances, </a:t>
            </a:r>
            <a:r>
              <a:rPr b="1" lang="en-US" sz="800" spc="-1" strike="noStrike">
                <a:solidFill>
                  <a:srgbClr val="000000"/>
                </a:solidFill>
                <a:latin typeface="Calibri"/>
              </a:rPr>
              <a:t>secondary</a:t>
            </a:r>
            <a:r>
              <a:rPr b="0" lang="en-US" sz="800" spc="-1" strike="noStrike">
                <a:solidFill>
                  <a:srgbClr val="000000"/>
                </a:solidFill>
                <a:latin typeface="Calibri"/>
              </a:rPr>
              <a:t> evidence can be accepted. Typically secondary evidence comprises copies or extracts of the best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arly review of the electronic evidence by the prosecutor allows a quick response, which will help to determine where further electronic evidence is required whilst there is still the opportunity to obtain it from other jurisdiction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uthenticity, accuracy and completeness</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s up to the party that seeks the evidence to be admitted to prepare and present evidence of the authenticity of data</a:t>
            </a:r>
            <a:r>
              <a:rPr b="0" lang="en-US" sz="800" spc="-1" strike="noStrike">
                <a:solidFill>
                  <a:srgbClr val="000000"/>
                </a:solidFill>
                <a:latin typeface="Calibri"/>
              </a:rPr>
              <a: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no different to physical evidence, such as a document recorded on a piece of paper. It is necessary to ensure that the evidence is authentic. The difference between electronic evidence and physical evidence is usually the ease by which </a:t>
            </a:r>
            <a:r>
              <a:rPr b="1" lang="en-US" sz="800" spc="-1" strike="noStrike">
                <a:solidFill>
                  <a:srgbClr val="000000"/>
                </a:solidFill>
                <a:latin typeface="Calibri"/>
              </a:rPr>
              <a:t>electronic evidence can be changed and altered, either deliberately or inadvertently</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subject to the same rules and laws that apply to documentary evidence. The doctrine of documentary evidence may be explained thus: the onus is on the prosecution to show to the court that the evidence produced is no more and no less now than when it was first taken into the possession of police. Operating systems and other programs frequently alter and add to the contents of electronic storage. This may happen automatically without the user necessarily being aware that the data has been chang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order to comply with the principles of electronic evidence, wherever practicable, </a:t>
            </a:r>
            <a:r>
              <a:rPr b="1" lang="en-US" sz="800" spc="-1" strike="noStrike">
                <a:solidFill>
                  <a:srgbClr val="000000"/>
                </a:solidFill>
                <a:latin typeface="Calibri"/>
              </a:rPr>
              <a:t>an image should be made of the entire target device</a:t>
            </a:r>
            <a:r>
              <a:rPr b="0" lang="en-US" sz="800" spc="-1" strike="noStrike">
                <a:solidFill>
                  <a:srgbClr val="000000"/>
                </a:solidFill>
                <a:latin typeface="Calibri"/>
              </a:rPr>
              <a:t>. Partial or selective file copying may be considered as an alternative in certain circumstances, for instance when the amount of data to be imaged makes this impracticable. However, investigators should be careful to ensure that all relevant evidence is captured if this approach is adopt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a minority of cases, it may not be possible to obtain an image using a recognised imaging device. In these circumstances, it may become necessary to obtain access to the original machine to recover the evidence. With this in mind, it is essential that a suitably qualified digital evidence specialist, who is competent to give evidence, obtains the evidenc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 is essential to display objectivity in a court, as well as the continuity and integrity of evidence</a:t>
            </a:r>
            <a:r>
              <a:rPr b="0" lang="en-US" sz="800" spc="-1" strike="noStrike">
                <a:solidFill>
                  <a:srgbClr val="000000"/>
                </a:solidFill>
                <a:latin typeface="Calibri"/>
              </a:rPr>
              <a:t>. It is also necessary to demonstrate how evidence has been recovered, showing each process through which the evidence was obtained. Evidence should be preserved to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uch an extent </a:t>
            </a:r>
            <a:r>
              <a:rPr b="1" lang="en-US" sz="800" spc="-1" strike="noStrike">
                <a:solidFill>
                  <a:srgbClr val="000000"/>
                </a:solidFill>
                <a:latin typeface="Calibri"/>
              </a:rPr>
              <a:t>that a third party is able to repeat the same process and arrive at the same result</a:t>
            </a:r>
            <a:r>
              <a:rPr b="0" lang="en-US" sz="800" spc="-1" strike="noStrike">
                <a:solidFill>
                  <a:srgbClr val="000000"/>
                </a:solidFill>
                <a:latin typeface="Calibri"/>
              </a:rPr>
              <a:t> as that presented to a court. </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Convincing</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vent, that there is a doubt about electronic data adduced in evidence, it is for the defence to raise a challenge to its admissibility. Once the issue is raised, the prosecution has to deal with it, usually by providing sufficient evidence </a:t>
            </a:r>
            <a:r>
              <a:rPr b="1" lang="en-US" sz="800" spc="-1" strike="noStrike">
                <a:solidFill>
                  <a:srgbClr val="000000"/>
                </a:solidFill>
                <a:latin typeface="Calibri"/>
              </a:rPr>
              <a:t>that the ‘integrity of the data is trustworthy</a:t>
            </a:r>
            <a:r>
              <a:rPr b="0" lang="en-US" sz="800" spc="-1" strike="noStrike">
                <a:solidFill>
                  <a:srgbClr val="000000"/>
                </a:solidFill>
                <a:latin typeface="Calibri"/>
              </a:rPr>
              <a:t>, and is therefore considered to be </a:t>
            </a:r>
            <a:r>
              <a:rPr b="1" lang="en-US" sz="800" spc="-1" strike="noStrike">
                <a:solidFill>
                  <a:srgbClr val="000000"/>
                </a:solidFill>
                <a:latin typeface="Calibri"/>
              </a:rPr>
              <a:t>reliable</a:t>
            </a:r>
            <a:r>
              <a:rPr b="0" lang="en-US" sz="800" spc="-1" strike="noStrike">
                <a:solidFill>
                  <a:srgbClr val="000000"/>
                </a:solidFill>
                <a:latin typeface="Calibri"/>
              </a:rPr>
              <a:t>.’ The evidence must be </a:t>
            </a:r>
            <a:r>
              <a:rPr b="1" lang="en-US" sz="800" spc="-1" strike="noStrike">
                <a:solidFill>
                  <a:srgbClr val="000000"/>
                </a:solidFill>
                <a:latin typeface="Calibri"/>
              </a:rPr>
              <a:t>convincing</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other aspect of evidence is </a:t>
            </a:r>
            <a:r>
              <a:rPr b="1" lang="en-US" sz="800" spc="-1" strike="noStrike">
                <a:solidFill>
                  <a:srgbClr val="000000"/>
                </a:solidFill>
                <a:latin typeface="Calibri"/>
              </a:rPr>
              <a:t>how it was obtained</a:t>
            </a:r>
            <a:r>
              <a:rPr b="0" lang="en-US" sz="800" spc="-1" strike="noStrike">
                <a:solidFill>
                  <a:srgbClr val="000000"/>
                </a:solidFill>
                <a:latin typeface="Calibri"/>
              </a:rPr>
              <a:t>, and whether the method by which it was dealt with is established, for example by scientific review. For instance, if the prosecution can produce a telephone bill, showing that the defendant connected to his ISP at a certain time of day, then this will be usually accepted. By contrast, if the prosecution claim that ‘The defendant deleted all the files on his hard drive, reformatted it, then threw it out of a 10-storey window, but we’ve been able to reconstruct the files by going to a data recovery firm’, then the defence may question the validity of this method of recovering the evidence.  It is for the prosecution to demonstrate that the methods used to recover the evidence were valid and convince the court that the evidence should be admitted.</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necessary to strike the right balance. On the one hand, it is not reasonable to expect the adjudicator (whether members of a jury or a single judge) to understand technical minutiae. On the other hand, it is inappropriate to expect them to accept data recovery techniques as ‘magic’. In some countries, the response is peer review – if other specialists in the field have studied the technique, tested it, and validated the results then the court will accept the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essence, electronic evidence is dealt with in the same way as any other form of evidence. The prosecution will have to prove that the document is authentic and its contents are admissible. All dealings with electronic evidence must conform with the principles of electronic evidence set out in the introduction to this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principles lay the foundation for the use of electronic evidence and should be considered at all times when dealing with potential sources of such evidence.</a:t>
            </a:r>
            <a:endParaRPr b="0" lang="en-US" sz="800" spc="-1" strike="noStrike">
              <a:solidFill>
                <a:srgbClr val="000000"/>
              </a:solidFill>
              <a:latin typeface="Calibri"/>
            </a:endParaRPr>
          </a:p>
        </p:txBody>
      </p:sp>
      <p:sp>
        <p:nvSpPr>
          <p:cNvPr id="4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40E37-C34F-4CDE-8A36-E56D3FF4D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Categorize the digital evidence in 3 group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000000"/>
                </a:solidFill>
                <a:latin typeface="Calibri"/>
              </a:rPr>
              <a:t>See </a:t>
            </a:r>
            <a:r>
              <a:rPr b="0" i="1" lang="fr-BE" sz="600" spc="-1" strike="noStrike">
                <a:solidFill>
                  <a:srgbClr val="000000"/>
                </a:solidFill>
                <a:latin typeface="Calibri"/>
              </a:rPr>
              <a:t>Stephen Mason</a:t>
            </a:r>
            <a:r>
              <a:rPr b="0" lang="fr-BE" sz="600" spc="-1" strike="noStrike">
                <a:solidFill>
                  <a:srgbClr val="000000"/>
                </a:solidFill>
                <a:latin typeface="Calibri"/>
              </a:rPr>
              <a:t>, « Electronic Evidence », Second Edition, LexisNexis, 2010, p.83 a.f.</a:t>
            </a:r>
            <a:endParaRPr b="0" lang="en-US" sz="6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5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600" spc="-1" strike="noStrike">
                <a:solidFill>
                  <a:srgbClr val="1f497d"/>
                </a:solidFill>
                <a:latin typeface="Calibri"/>
              </a:rPr>
              <a:t>Categorize the digital evidence into 3 groups:</a:t>
            </a:r>
            <a:endParaRPr b="0" lang="en-US" sz="600" spc="-1" strike="noStrike">
              <a:solidFill>
                <a:srgbClr val="000000"/>
              </a:solidFill>
              <a:latin typeface="Calibri"/>
            </a:endParaRPr>
          </a:p>
          <a:p>
            <a:pPr lvl="2" marL="1143000" indent="-228600">
              <a:lnSpc>
                <a:spcPct val="14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600" spc="-1" strike="noStrike">
                <a:solidFill>
                  <a:srgbClr val="000000"/>
                </a:solidFill>
                <a:latin typeface="Calibri"/>
              </a:rPr>
              <a:t>Records of activities that contain content written by one or more people </a:t>
            </a:r>
            <a:r>
              <a:rPr b="0" lang="fr-BE" sz="500" spc="-1" strike="noStrike">
                <a:solidFill>
                  <a:srgbClr val="000000"/>
                </a:solidFill>
                <a:latin typeface="Calibri"/>
              </a:rPr>
              <a:t>(ex. e-mails, word-files, instant messages)</a:t>
            </a:r>
            <a:br>
              <a:rPr sz="500"/>
            </a:br>
            <a:r>
              <a:rPr b="0" lang="fr-BE" sz="800" spc="-1" strike="noStrike">
                <a:solidFill>
                  <a:srgbClr val="1f497d"/>
                </a:solidFill>
                <a:latin typeface="Calibri"/>
              </a:rPr>
              <a:t>It may be necessary to demonstrate to demonstrate that the content of the document is a reliable record of the human statement that can be trusted.</a:t>
            </a: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generated by a computer that have not had any input from a human </a:t>
            </a:r>
            <a:r>
              <a:rPr b="0" lang="fr-BE" sz="600" spc="-1" strike="noStrike">
                <a:solidFill>
                  <a:srgbClr val="000000"/>
                </a:solidFill>
                <a:latin typeface="Calibri"/>
              </a:rPr>
              <a:t>(ex. data logs, </a:t>
            </a:r>
            <a:r>
              <a:rPr b="0" lang="fr-BE" sz="600" spc="-1" strike="noStrike">
                <a:solidFill>
                  <a:srgbClr val="fc2610"/>
                </a:solidFill>
                <a:latin typeface="Calibri"/>
              </a:rPr>
              <a:t>ATM transactions</a:t>
            </a:r>
            <a:r>
              <a:rPr b="0" lang="fr-BE" sz="600" spc="-1" strike="noStrike">
                <a:solidFill>
                  <a:srgbClr val="000000"/>
                </a:solidFill>
                <a:latin typeface="Calibri"/>
              </a:rPr>
              <a:t>, telephone connections)</a:t>
            </a:r>
            <a:br>
              <a:rPr sz="600"/>
            </a:br>
            <a:r>
              <a:rPr b="0" lang="fr-BE" sz="600" spc="-1" strike="noStrike">
                <a:solidFill>
                  <a:srgbClr val="000000"/>
                </a:solidFill>
                <a:latin typeface="Calibri"/>
              </a:rPr>
              <a:t>The main evidentiary issue with such records may be to demonstrate that the computer program that generated the record was functioning consistently at the material time.</a:t>
            </a:r>
            <a:endParaRPr b="0" lang="en-US" sz="6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comprising a mix of human input and calculations generated and stored by a computer </a:t>
            </a:r>
            <a:r>
              <a:rPr b="0" lang="fr-BE" sz="600" spc="-1" strike="noStrike">
                <a:solidFill>
                  <a:srgbClr val="000000"/>
                </a:solidFill>
                <a:latin typeface="Calibri"/>
              </a:rPr>
              <a:t>(ex. a financial spreadsheet)</a:t>
            </a:r>
            <a:br>
              <a:rPr sz="600"/>
            </a:br>
            <a:r>
              <a:rPr b="0" lang="fr-BE" sz="600" spc="-1" strike="noStrike">
                <a:solidFill>
                  <a:srgbClr val="000000"/>
                </a:solidFill>
                <a:latin typeface="Calibri"/>
              </a:rPr>
              <a:t>From the evidential point of view, the issue is whether the person or the computer created the content of the record, and how much of the content was created by the computer and how much by the human. It is possible that the input could be hearsay, and the authenticity of the computer processing might be the issue.</a:t>
            </a:r>
            <a:endParaRPr b="0" lang="en-US" sz="6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600" spc="-1" strike="noStrike">
                <a:solidFill>
                  <a:srgbClr val="000000"/>
                </a:solidFill>
                <a:latin typeface="Calibri"/>
              </a:rPr>
              <a:t>important role of </a:t>
            </a:r>
            <a:r>
              <a:rPr b="1" lang="fr-BE" sz="600" spc="-1" strike="noStrike">
                <a:solidFill>
                  <a:srgbClr val="fc2610"/>
                </a:solidFill>
                <a:latin typeface="Calibri"/>
              </a:rPr>
              <a:t>digital evidence specialists/experts</a:t>
            </a:r>
            <a:endParaRPr b="0" lang="en-US" sz="6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heart of the forensic witness’s role lies in the production of reports relating to the electronic evidence obtained, statements and the rebuttal of opposition reports where appropriate. Encourage short statements, clearly divided into fact and opinion, so as to allow an understanding of precisely what the thought processes and the arguments that are raised. Require supporting documentation as appendices if necessary, rather than unnecessarily bulk document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short report can be a good report; a long report is not necessary if no one is able to read it all the way through.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sk for specific information and explanations if they are known or for guidance from the witness ahead of the statement if not, and if they are known give specific questions arising from the opposition statements requiring rebuttal or explanation. Most crucially, have the witness generate and agree a glossary of terms to be used in the cas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encouraged for the forensic witnesses to meet and establish common ground and agreed differences between the prosecution and defense positions with respect to the interpretation of any digital evidence, and it is also useful to agree a glossary of term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ital that representatives of both sides attend any conference between the forensic witnesses. A minute should be taken of any such forensic witness conference, and both parties should sign the minute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vidence that the forensic witness give must have the following characteristics in order to be able to guarantee it´s correct evaluation at Cour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redibl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 Impartial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 Clear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37BFC-884A-4073-AC55-E80B9D836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hain of custody</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See chapter 9.4.3 of the CoE Electronic Evidence Guide.</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ain of custody is initiated with the </a:t>
            </a:r>
            <a:r>
              <a:rPr b="1" lang="en-GB" sz="1200" spc="-1" strike="noStrike">
                <a:solidFill>
                  <a:srgbClr val="000000"/>
                </a:solidFill>
                <a:latin typeface="Calibri"/>
              </a:rPr>
              <a:t>description of the seizure</a:t>
            </a:r>
            <a:r>
              <a:rPr b="0" lang="en-GB" sz="1200" spc="-1" strike="noStrike">
                <a:solidFill>
                  <a:srgbClr val="000000"/>
                </a:solidFill>
                <a:latin typeface="Calibri"/>
              </a:rPr>
              <a:t> by the legal officer and is intended to </a:t>
            </a:r>
            <a:r>
              <a:rPr b="1" lang="en-GB" sz="1200" spc="-1" strike="noStrike">
                <a:solidFill>
                  <a:srgbClr val="000000"/>
                </a:solidFill>
                <a:latin typeface="Calibri"/>
              </a:rPr>
              <a:t>record all events that occur</a:t>
            </a:r>
            <a:r>
              <a:rPr b="0" lang="en-GB" sz="1200" spc="-1" strike="noStrike">
                <a:solidFill>
                  <a:srgbClr val="000000"/>
                </a:solidFill>
                <a:latin typeface="Calibri"/>
              </a:rPr>
              <a:t> to the electronic device that is to be analysed.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ce a data storage device is cloned, it is highly recommendable, if possible, to </a:t>
            </a:r>
            <a:r>
              <a:rPr b="1" lang="en-GB" sz="1200" spc="-1" strike="noStrike">
                <a:solidFill>
                  <a:srgbClr val="000000"/>
                </a:solidFill>
                <a:latin typeface="Calibri"/>
              </a:rPr>
              <a:t>keep the original</a:t>
            </a:r>
            <a:r>
              <a:rPr b="0" lang="en-GB" sz="1200" spc="-1" strike="noStrike">
                <a:solidFill>
                  <a:srgbClr val="000000"/>
                </a:solidFill>
                <a:latin typeface="Calibri"/>
              </a:rPr>
              <a:t> storage device in custody with the legal officer. In the event that such is not possible, it is possible to, instead, make a second copy of the original electronic during the seizure process to take it to the legal officer, while the first cloned storage device will be used for forensics analysis. If more cloned copies are needed either for additional analysis or for a counter-specialist, such can be made from the clone stored with the legal officer.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ving in custody the original or a copy we allow that the hard disk content is accessible to other parties who may need to proof the manipulation or non-manipulation of the results presented by accessing the original and making an identical copy to do a second computer forensic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eizure of the original storage device with the legal officer is only possible when its removal from the seizure site will not cause an economic prejudice for example by depriving a business of data that it needs and only when it is the most pragmatic option and proportionate with the circumstances of the case. In all other cases, the original storage device should not be seized, but instead an exact copy should be made as this is sufficient to guarantee the preservation of the content of the electronic storage device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egal officer will then keep the seized data in his custody, either the original data storage device or an identical copy thereof, and </a:t>
            </a:r>
            <a:r>
              <a:rPr b="1" lang="en-GB" sz="1200" spc="-1" strike="noStrike">
                <a:solidFill>
                  <a:srgbClr val="000000"/>
                </a:solidFill>
                <a:latin typeface="Calibri"/>
              </a:rPr>
              <a:t>create a document that describes each time the data is handled, by whom, and for what purpose</a:t>
            </a:r>
            <a:r>
              <a:rPr b="0" lang="en-GB" sz="1200" spc="-1" strike="noStrike">
                <a:solidFill>
                  <a:srgbClr val="000000"/>
                </a:solidFill>
                <a:latin typeface="Calibri"/>
              </a:rPr>
              <a:t> to properly describe the chain of custody. </a:t>
            </a:r>
            <a:endParaRPr b="0" lang="en-US" sz="1200" spc="-1" strike="noStrike">
              <a:solidFill>
                <a:srgbClr val="000000"/>
              </a:solidFill>
              <a:latin typeface="Calibri"/>
            </a:endParaRPr>
          </a:p>
        </p:txBody>
      </p:sp>
      <p:sp>
        <p:nvSpPr>
          <p:cNvPr id="4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1FC7F-949F-4FE0-B0E0-21C508F9B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Ensure the integr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ndispensable that you require in your MLA-request that all actions and the method of investigation are fully documente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ny countries, for example the USA and the UK (where the major internet-players are located), are willing to take in account special proceedings and requirements in order to ensure that the evidence will be collected in accordance with your national law. </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example specify in your MLA-request that you want that the seized digital evidence would be back-uped and sealed in a certain way. You even could ask to ‘hash’ all the digital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Ensure the admissibility and legal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that not all evidence coming from abroad could be considered admissibl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t all nations from which you would like to request digital evidence have ratified the ECHR.</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issues as:</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elf incrimination clause:</a:t>
            </a:r>
            <a:br>
              <a:rPr sz="800"/>
            </a:br>
            <a:r>
              <a:rPr b="0" lang="en-US" sz="800" spc="-1" strike="noStrike">
                <a:solidFill>
                  <a:srgbClr val="000000"/>
                </a:solidFill>
                <a:latin typeface="Calibri"/>
              </a:rPr>
              <a:t>In some countries you have a legislation that makes it possible to force a suspect to collaborate with justice (f.e. to give an encryption key, a pasword, …). This could be inadmissible in your country.</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provocation (admissible in the USA, not admissible in Europe)</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assistance of a lawyer (the Salduz-ruling of the ECHR)</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specify in your MLA-request that you want the requested nation to take in account certain procedural obligations. </a:t>
            </a:r>
            <a:endParaRPr b="0" lang="en-US" sz="800" spc="-1" strike="noStrike">
              <a:solidFill>
                <a:srgbClr val="000000"/>
              </a:solidFill>
              <a:latin typeface="Calibri"/>
            </a:endParaRPr>
          </a:p>
          <a:p>
            <a:pPr marL="152280" indent="0">
              <a:lnSpc>
                <a:spcPct val="15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1f497d"/>
                </a:solidFill>
                <a:uFillTx/>
                <a:latin typeface="Calibri"/>
              </a:rPr>
              <a:t>Jurisdiction and the nationality of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000000"/>
                </a:solidFill>
                <a:latin typeface="Calibri"/>
              </a:rPr>
              <a:t>See chapter 8 of the CoE Electronic Evidence Guide on </a:t>
            </a:r>
            <a:r>
              <a:rPr b="1" lang="fr-BE" sz="1200" spc="-1" strike="noStrike">
                <a:solidFill>
                  <a:srgbClr val="000000"/>
                </a:solidFill>
                <a:latin typeface="Calibri"/>
              </a:rPr>
              <a:t>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international dimension of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networked world is a great playground for criminals. Many thousands of children and adults across the globe are harmed every day by misuse of Internet; innocent people have money stolen from them, and thieves perpetrate major crimes across international boundaries. For this reason, it is important for investigation authorities to facilitate cross-border liaison. Obtaining evidence through mutual legal assistance and extradition plays an important role in the work of police forces and prosecutors. Prosecutors work with investigators and prosecutors from other countries to take forward investigations and prosecutions. International cooperation into the investigation of cybercrimes cannot be emphasised too muc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ross border investigation has to deal with a singularly important issue: the circumstances in which a law enforcement agent can lawfully investigate outside his or her own country (including evidence stored in the ‘cloud’, which could be anywhere), especially if he or she needs to act urgently. It is important to know if it´s possible to obtain and gather electronic evidence that’s stored somewhere out of the boundaries of a country, especially if this evidence is likely to disappear.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two sets of circumstances that are important to distinguish when dealing with electronic evidence that is not physically located within the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1. Where an investigator has taken control of a computer that is connected to the Internet. In such circumstances, the investigator may have the power to click on web sites or enter computers in other jurisdictions. The authority to do so may be given to the investigator by virtue of domestic law or a combination of domestic law and the provisions of article 32 of the Budapest Convention on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2. Where electronic evidence is located in the ‘cloud’ – that is, where the e-mails of a suspect, for instance, are not stored in their home computer that has been seized, but is stored elsewhere, on a separate hard drive in, for instance, the United States of America.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understand the difference between these two sets of circumstances, because the investigating authorities will have to take different actions in each circumstance, depending on the laws that apply.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response to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various measures that have been taken by Europe to respond to cybercrime. The most relevant ones include Interpol, the Council of Europe and developments by the European Union (the Contact Point Network, Europol, Eurojust and the European Judicial Network in Criminal Matters). The resources of these institutes may be available to different players in the criminal justice system to assist them in investigations or prosecutions.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Mutual Legal Assista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vereign states have always needed to make requests to other sovereign states regarding the collection of evidence in crimes that include an international element. In these cases an application for help may be made for Mutual Legal Assistance (MLA), or to request other forms of cooperation. Cross border requests for assistance are particularly important in cases involving electronic evidence as there is the potential for the evidence to be altered or deleted. The real challenge in these cases is to be able to act quickly enoug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making a request for MLA, it is necessary to initiate a formal request by the prosecution authorities, or sometimes by the judicial authorities. However, the success of such a request often depends on the goodwill and level of expertise of those involved, by both the requesting authorities and the requested authorities. In addition, it might take some time for the request to be completed.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is reason, the investigating and prosecuting authorities might attempt to obtain evidence by a different route in cases involving electronic evidence in order to obtain a better result.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Cross-border case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case crosses a number of jurisdictions, both the substantive law will be considered, as well as any discussions between the various agencies that are responsible for investigating offences in each jurisdiction. This can be a complex area, and sometimes a decision is taken to allow a single team of investigators in one jurisdiction to take the lead in the investigation and prosecution of offences. The relevant agencies in the other jurisdictions will agree to cooperate with the lead investigative agency to secure evidence in their own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5 of the Budapest Convention offers some practical assistance to investigators in that it requires each signatory to ‘designate a point of contact available on a twenty-four hour, seven-day-a-week basis’. The purpose of this is to provide for the provision of ‘immediate assistance for the purpose of investigations or proceedings concerning criminal offences related to computer systems and data, or for the collection of evidence in electronic form of a criminal offe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to the Convention are required to carry out a number of measures, providing its domestic law and practice permit them, as follow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The provision of technical advi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The preservation of data pursuant to Articles 29 and 30;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The collection of evidence, the provision of legal information, and locating of suspect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n important part of facilitating the effective and efficient work of investigations dealing with crimes that include an element of electronic evidence across jurisdictions.</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territorial competence (of collecting evidence) in cyberspa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 Belgian attempt to a solution and a</a:t>
            </a:r>
            <a:r>
              <a:rPr b="1" lang="fr-BE" sz="800" spc="-1" strike="noStrike" u="sng">
                <a:solidFill>
                  <a:srgbClr val="000000"/>
                </a:solidFill>
                <a:uFillTx/>
                <a:latin typeface="Calibri"/>
              </a:rPr>
              <a:t>n invitation to reflection for everyon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re you afraid of the fight against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real life story to point out some problems firs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B. who lives next to the building of the European Parliament in Brussels is not fond of all those European institutions and he wants to restore a Brussels with only Belgian people living in it. He decides to start a terror campaign and wants to scare off the European expats. He starts with sending several e-mails in which he makes believe that he is a German based organisation fighting for a smaller European Union and that he is not alone, prepared to even plant bombs to obtain the final goa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is no real computer wizard, but learned on the internet that he can stay almost totally anonymous using freely available tool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His e-mails were sent from the hotmail account bessermit8@hotmail.com, which means that his e-mail account is probably stored on the hotmail servers in the USA (Christian heard that the cooperation with the USA is slow and not effective when police want to obtain content because of the special </a:t>
            </a:r>
            <a:r>
              <a:rPr b="0" i="1" lang="en-GB" sz="800" spc="-1" strike="noStrike">
                <a:solidFill>
                  <a:srgbClr val="000000"/>
                </a:solidFill>
                <a:latin typeface="Calibri"/>
              </a:rPr>
              <a:t>“probable cause”</a:t>
            </a:r>
            <a:r>
              <a:rPr b="0" lang="en-GB" sz="800" spc="-1" strike="noStrike">
                <a:solidFill>
                  <a:srgbClr val="000000"/>
                </a:solidFill>
                <a:latin typeface="Calibri"/>
              </a:rPr>
              <a:t> rules). The hotmail account was created using the TOR (the Onion Ring Router) network and every connection afterwards was also established using the TOR network. From the technical data in the header of the e-mail and from the registry data at Microsoft, it seems to the police, who was called in, that the mails were really sent from Germany but that the account was created in Kazakhsta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elgian police really wonder if it is even possible to continue their investigation, since they consider it a case for the German police (the man states that he is belonging to a German organisation, and the e-mails seem to be sent from Germany), they also do not really like to send out rogatory commissions to the USA and to Kazakhstan, since they know they will most probably get no answer there or will get an answer much to late with regard to the data retention rules in Europe that say that digital evidence from internet access providers should be thrown away after an average period of 12 month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an law enforcement and judiciary were forced by Belgian government to undertake ac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where to sta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competent to collect themselves evidence in Germany, the USA, Kazakhstan, or any other countr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When are we territorially competent to treat a cybercrim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rticle 3 of the Belgian Criminal Law Code states that courts shall be competent for all crimes on Belgian territory, whether committed by Belgians or foreigners (territori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4 states that courts shall only be competent for crimes abroad when the Belgian Criminal Procedure Code determines so (e.g. article 10ter of the Preliminary Title of the Belgian Criminal Law Code: sexual exploitation, rape, indecent assault, terrorism) (extra territorial competence). Many countries have similar territorial competence provi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n we consider ourselves territorial competent, the advantages of this territorial competency are numerous: it is based on the national sovereignty, there are no conditions attached in order to be competent, the nationality of the offender or victim are irrelevant (even when both are foreigners or even when not punishable in another country (e.g. bigamy), a judgment based on the same facts in another country is not necessarily an obstacle and foreign legislation does not have to be taken into consideration (no double criminalization requir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key question in judging cybercrime remains however the localization of the cyber-offence. Until today nobody planted a flag (yet) in cyberspace. Nobody really knows where cyberspace is and nobody really knows how to cope with the </a:t>
            </a:r>
            <a:r>
              <a:rPr b="0" i="1" lang="en-US" sz="800" spc="-1" strike="noStrike">
                <a:solidFill>
                  <a:srgbClr val="000000"/>
                </a:solidFill>
                <a:latin typeface="Calibri"/>
              </a:rPr>
              <a:t>“virtual reality thing”</a:t>
            </a:r>
            <a:r>
              <a:rPr b="0" lang="en-US" sz="800" spc="-1" strike="noStrike">
                <a:solidFill>
                  <a:srgbClr val="000000"/>
                </a:solidFill>
                <a:latin typeface="Calibri"/>
              </a:rPr>
              <a:t> in justice. The judicial minds most often seem not to be ready to implement their traditional materialized way of thinking in the virtual cyber environment. Cyberspace has no boundaries and cybercrime has no frontiers. How can we reconcile that fact with our narrow judicial and national competence rules? How to link a cyber(space)crime to the national soil of a na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s in many other nations, the issue of locating an offence is not regulated by law but by legal doctrine. In order to locate an offence, different theories have been brought to the light. There is the criminal event theory according to which it seems to be decisive where the crime or the </a:t>
            </a:r>
            <a:r>
              <a:rPr b="0" i="1" lang="en-US" sz="800" spc="-1" strike="noStrike">
                <a:solidFill>
                  <a:srgbClr val="000000"/>
                </a:solidFill>
                <a:latin typeface="Calibri"/>
              </a:rPr>
              <a:t>iter criminis</a:t>
            </a:r>
            <a:r>
              <a:rPr b="0" lang="en-US" sz="800" spc="-1" strike="noStrike">
                <a:solidFill>
                  <a:srgbClr val="000000"/>
                </a:solidFill>
                <a:latin typeface="Calibri"/>
              </a:rPr>
              <a:t> started. According to the theory of the instrument it seems to be important where the act of crime really happened and was executed. The direct consequence theory lays the emphasis on the result (the end) of the crim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ranslated to cybercrime in cyberspace, that would mean that according to the theory of the instrument, the location of the residence (and computer) of the hacker determines the competent prosecutor and court. According to the theory of the instrument, the location of the server on which the hacking was performed would be decisive. And finally, according to the theory of the direct consequence, the country in which the victim is confronted with the hacking would b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ost countries apply a mixture of these theories. In the USA for example, courts apply in a very extensive way the theory of effects, which include also distant effects, in order to declare themselves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 combination of all theories has been vested, named the “theory of objective ubiquity” (</a:t>
            </a:r>
            <a:r>
              <a:rPr b="0" i="1" lang="en-US" sz="800" spc="-1" strike="noStrike">
                <a:solidFill>
                  <a:srgbClr val="000000"/>
                </a:solidFill>
                <a:latin typeface="Calibri"/>
              </a:rPr>
              <a:t>“théorie de l’ubiquité objective”</a:t>
            </a:r>
            <a:r>
              <a:rPr b="0" lang="en-US" sz="800" spc="-1" strike="noStrike">
                <a:solidFill>
                  <a:srgbClr val="000000"/>
                </a:solidFill>
                <a:latin typeface="Calibri"/>
              </a:rPr>
              <a:t>), according to which the offence is situated in all places where there is a constitutive element of the infraction. This theory has been supplemented with the “theory of indivisibility”, which makes it possible that Courts can take into consideration all elements that are indivisibly connected with an offence in Belgium in order to declare themselves competent. This is very comparable with the theory of effects. The Belgian theory has been well-established by the Belgian Court of Cassation (Supreme Court) on January 23, 1979 (in the Ghavami-Lahidji-case). A bad cheque was written and issued in Teheran, but the account on which they tried to charge the cheque (in Teheran) was a Belgian bank account. The Belgian Court of Cassation ruled that Belgian courts wer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at was 1979, long before cyberspace was discovered and cybercrime was born. Now, how to apply these rules and theories in cybercrim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2008, a case was brought before the court of first instance of the judicial district of Dendermonde in Belgium. A woman was prosecuted for having hacked the hotmail account and several other web-based accounts of her former unfaithful lover. No big deal one might think. The problem was however that the mistress lived in another judicial district, and that she had performed the hacking from her computer in that other district on servers which were located in the USA and the Netherlands, among others. The judge ruled on September 29, 2008 that he was competent because the victim was first confronted with the hacking when he was checking his hotmail account and other web accounts in the district of Dendermonde. Apparently, according to this ruling, activating your computer and experiencing cybercrime is sufficient to invoke jurisdiction. The judge apparently found in his district a crossroad between the real and the virtual worl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it seems to be enough to activate a computer and to log on to the internet in a particular location in order to be competent. This could mean that Belgium claims some kind of global competence in cybercrime. This also means that any other nation could be equally competent. How absurd it may seem at first sight, we should consider the possibility that indeed cyberspace entails a form of glob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ame judge of the case mentioned above ruled on March 2, 2009 that YAHOO Inc.! was virtually and economically present in Belgium (through the internet) and therefore should also have to be considered judicially present in a way that YAHOO Inc.! </a:t>
            </a:r>
            <a:r>
              <a:rPr b="0" lang="en-GB" sz="800" spc="-1" strike="noStrike">
                <a:solidFill>
                  <a:srgbClr val="000000"/>
                </a:solidFill>
                <a:latin typeface="Calibri"/>
              </a:rPr>
              <a:t>should obey to the direct order of the public prosecutor to cooperate with justice. Note that the public prosecutor had handed over his cooperation-request to YAHOO Inc.! via the internet (!). Subsequently YAHOO Inc.! was acquitted by the court of appeal of Ghent, the acquittal was annulled by the Belgian Court of Cassation, and after that YAHOO Inc.! was acquitted again by the court of appeal of Brussels. The case went for the second time to the Court of Cassation. Meanwhile, even the courts of appeal that acquitted YAHOO Inc.! declared themselves competent to judge the prosecution of YAHOO Inc.!, even though YAHOO Inc.! can only be considered virtually present in Belgium when you activate your computer and meet them on the internet. Apparently the courts agree that the public prosecutor met YAHOO Inc.! in his office. On September 4, 2012, the court of cassation ruled that: “</a:t>
            </a:r>
            <a:r>
              <a:rPr b="0" i="1" lang="en-GB" sz="800" spc="-1" strike="noStrike">
                <a:solidFill>
                  <a:srgbClr val="000000"/>
                </a:solidFill>
                <a:latin typeface="Calibri"/>
              </a:rPr>
              <a:t>The circumstance that the Public Prosecutor sends, from Belgium, his written request as meant in Art. 46bis of the (Belgian) Code of Criminal Procedure, requesting the cooperation of the operator of an electronic communication network or of the provider of an electronic communication service established outside of Belgian territory, to a foreign address, does not invalidate the request</a:t>
            </a:r>
            <a:r>
              <a:rPr b="0" lang="en-GB"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are in favour of broad competence rules and the rulings which dematerialize the classical principles of territorial competence. This way of thinking is indispensable to cope with virtual reality and cyberspace in justic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that was given we consider the Belgian police to b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re we competent to collect evidence in another country ourselv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nce we have declared ourselves competent to investigate a case and to put the case before court, it is important that digital evidence can be gathered to build up this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most cybercriminals operate cross border or in a lot of cases from computers situated outside of the country where they want to commit the crime, it is clear that a lot of the evidence will be found in other countries than the country that wants to put the cyber criminals in front of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espite of all efforts made to make international cooperation more easy, in real life, often confronted with transborder crimes, mutual legal assistance works too slowly, if it works at al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Up till now rogatory commissions after all mean a lot of paperwork and often need translations that have to be made. In cyberspace where digital evidence is very volatile (one push on the delete button and everything is gone) every second count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do rogatory commissions require the fact that a foreign authority is not only contactable (preferably 24/7), but also that a quick and thorough response will be given. Unfortunately today this isn’t so in most cas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European law enforcement is mostly confronted with companies and servers that are situated in the USA, land of the free. Not only are a lot of service providers established in the USA (Yahoo!, Google, Microsoft...), but also the first amendment that includes the freedom of speech attracts a lot of people to put their (legal and illegal) content on USA based serv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only subscriber information is needed, or mere communication data (no content), unilateral agreements between local law enforcement and the USA based companies are a gratefully used shortcut. But when content data is required, the normal diplomatic channels have to be followed and </a:t>
            </a:r>
            <a:r>
              <a:rPr b="0" i="1" lang="en-GB" sz="800" spc="-1" strike="noStrike">
                <a:solidFill>
                  <a:srgbClr val="000000"/>
                </a:solidFill>
                <a:latin typeface="Calibri"/>
              </a:rPr>
              <a:t>“probable cause”</a:t>
            </a:r>
            <a:r>
              <a:rPr b="0" lang="en-GB" sz="800" spc="-1" strike="noStrike">
                <a:solidFill>
                  <a:srgbClr val="000000"/>
                </a:solidFill>
                <a:latin typeface="Calibri"/>
              </a:rPr>
              <a:t> (a judicial figure not known in most European countries) has to be proven. Many rogatory commissions seem to be sent out; not many return having been successfully execut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cooperation with many other foreign countries, most difficult to access, seems to show the same difficulti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would therefore be much easier to seize data from out of one’s own country on the internet, in cyberspace, without having to deal with all those different types of mutual assista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udapest Convention on Cybercrime didn’t want to go that far yet, but didn’t exclude other member states to think in this way. The Belgian legislator made a law that is innovative and helps to obtain evidence abroad. The Belgian legal solution opens the discussion and shows how expeditiously digital evidence can be seized and cyber criminals can be brought to court. The Belgian solution is often used and up to now had no problems being contested in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article 19.2 of the Budapest Convention on Cybercrime is writt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have grounds to believe that the data sought is stored in another computer system or part of it in its territory, and such data is lawfully accessible from or available to the initial system, the authorities shall be able to expeditiously extend the search or similar accessing to the other system.”</a:t>
            </a: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ith this article the Council of Europe acknowledged that often data is not stored on the computer used by the suspect, but the computer of the suspect is only an access point to the actual data that is stored elsewhere on another computer (system). The Council of Europe pointed out that in those cases, and till further notice only when the data is stored on the own territory of the member state examining the case, it should be possible that the search of the first computer should be expeditiously extended to the other – connected –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helpful, but when data is stored in another country, this does not go far enough.</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o when the article 19.2 of </a:t>
            </a:r>
            <a:r>
              <a:rPr b="0" lang="en-GB" sz="800" spc="-1" strike="noStrike">
                <a:solidFill>
                  <a:srgbClr val="000000"/>
                </a:solidFill>
                <a:latin typeface="Calibri"/>
              </a:rPr>
              <a:t>the Budapest Convention on Cybercrime only speaks about the own territory, the article 32 of the Budapest Convention on Cybercrime seems to go one step furthe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A Party may, without the authorisation of another Party: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access publicly available (open source) stored computer data, regardless of where the data is located geographically; o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    access or receive, through a computer system in its territory, stored computer data located in another Party, if the Party obtains the lawful and voluntary consent of the person who has the lawful authority to disclose the data to the Party through that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ly written that the information or data accessed in another (member) state can only be used without the authorization of that other Party when the data is or (1) publicly available or (2) when the (i) lawful and (ii) voluntary consent was given by a person who has the (iii) lawful authority to disclose the data.</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dly enough these situations do not often occur in criminal investigations. Criminals do not tend to voluntarily disclose the evidence that can put them in jail. It also speaks for itself that the information that law enforcement is interested in is almost never publicly availabl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 that in order to make a useable tool for the fight against cybercrime, the Council of Europe should have enlarged the possibilities to collect data abroad. Apparently this was discussed, but without results yet.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xplanatory report a glimpse of  the discussion on installing transborder competence is giv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293. The issue of when a Party is permitted to unilaterally access computer data stored in another Party without seeking mutual assistance was a question that the drafters of the Convention discussed at length. There was detailed consideration of instances in which it may be acceptable for States to act unilaterally and those in which it may not. The drafters ultimately determined that it was not yet possible to prepare a comprehensive, legally binding regime regulating this area. In part, this was due to a lack of concrete experience with such situations to date; and, in part, this was due to an understanding that the proper solution often turned on the precise circumstances of the individual case, thereby making it difficult to formulate general rules. Ultimately, the drafters decided to only set forth in Article 32 of the Convention situations in which all agreed that unilateral action is permissible. They agreed not to regulate other situations until such time as further experience has been gathered and further discussions may be held in light thereof. In this regard, Article 39, paragraph 3 provides that </a:t>
            </a:r>
            <a:r>
              <a:rPr b="0" i="1" lang="en-US" sz="800" spc="-1" strike="noStrike" u="sng">
                <a:solidFill>
                  <a:srgbClr val="000000"/>
                </a:solidFill>
                <a:uFillTx/>
                <a:latin typeface="Calibri"/>
              </a:rPr>
              <a:t>other situations are neither authorised, nor precluded</a:t>
            </a:r>
            <a:r>
              <a:rPr b="0" i="1"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ly written that the need for transborder competence is acknowledged, but that it was not yet possible to find an agreement between member states and it was still too soon, due to lack of experience and time to discu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egarding the possible solutions for this problem sought and maybe found by the member states, it was written that other solutions were at that point in time neither authorised, nor precluded.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elgian solution: article 88ter of the Belgian Criminal Code of Procedu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lready one year before the Budapest Convention on Cybercrime that was signed on November 23rd 2001, the Belgian legislator adopted with the Belgian Law on Informatics Crime on November 28th 2000 the article 88ter of the Belgian Criminal Code of Procedure (BCCP).</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re the Belgian law of 2000 brought the Belgian legislation already in line with the still to sign Budapest Convention on Cybercrime, the article 88ter BCCP was a response to the above mentioned articles 19.2 and 32 of 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article 88ter BCCP allows the Investigating Judge (this is a Judge with special duty to lead the investigation and with special investigative powers), when he orders a search in a computer system, to extend the search to another computer system or to a part of another computer system which is located elsewhe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competence is attached to conditions. The Investigating Judge can only decide to this extention when it is (1) necessary to find truth in an investigation and (2) when (i) other investigation measures are not proportionate (for example different search warrants have to be authorised for different premises) or (ii) there is a clear risk that proof would disappear (in cybercrime cases a condition that is almost always fulfilled as digital proof is very volatile (delete butt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the Belgian legislator was concerned with the fact that the police would be able to go too far too easily (for example from the bank account of a suspect to all the bank accounts of the same bank), an additional condition was added in the sense that the Investigating Judge has to restrict the extended search to the parts of another computer system to which the users of the initial system have access (this condition is mostly met when the Investigating Judge allows the police to go in another computer with the login and password of the suspect; this login and password define the restriction of the acce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fter the extended search the person responsible for the computer system has to be informed by the Investigation Judge if he or she can reasonably be identified (in many cases this is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the most innovative part of the article 88ter BCCP lies in the last subsection of paragraph 3 of the article that states that when it seems that the data which is discovered is not stored on Belgian territory, the data is only copied. When this has happened the Investigating Judge only has to inform the Ministry of Justice through the Public Prosecutor Office; the Ministry of Justice informs the State involved, if it can reasonably be determined (often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ccordance with article 39bis BCCP this copied data is as valuable as proof before court as the original data (the data is not physically seized, but is considered to be seiz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case this means that Belgian police can collect evidence starting from Belgian computers (not necessarily the computer of the suspect) and go from there to servers located in Germany, USA, Kazakhstan, the rest of the world... They can start examining the bessermit8@hotmail.com account, the moment they have password and logi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is clearly an advantage in order to save precious time and in order not to lose the digital evidence while processing paperwork.</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has to be pointed out that however powerful the article 88ter BCCP tools look at first sight, the classical police work remains just as important. Without traces of login and passwords, for example discovered on a classical wire tap, the bessermit8@hotmail.com hotmail account would not be accessible except when the law would offer the legal possibility to hack the accou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ny case the Belgian solution offers big opportunities to handle data stored in “the cloud”. As companies and private persons are storing not only data but also processing systems in “the cloud” and by consequence do not themselves know where the data is stored exactly or in which country data is stored, the Belgian solution makes clear that it is not important to know </a:t>
            </a:r>
            <a:r>
              <a:rPr b="0" i="1" lang="en-GB" sz="800" spc="-1" strike="noStrike">
                <a:solidFill>
                  <a:srgbClr val="000000"/>
                </a:solidFill>
                <a:latin typeface="Calibri"/>
              </a:rPr>
              <a:t>where</a:t>
            </a:r>
            <a:r>
              <a:rPr b="0" lang="en-GB" sz="800" spc="-1" strike="noStrike">
                <a:solidFill>
                  <a:srgbClr val="000000"/>
                </a:solidFill>
                <a:latin typeface="Calibri"/>
              </a:rPr>
              <a:t> the data is stored, but </a:t>
            </a:r>
            <a:r>
              <a:rPr b="0" i="1" lang="en-GB" sz="800" spc="-1" strike="noStrike">
                <a:solidFill>
                  <a:srgbClr val="000000"/>
                </a:solidFill>
                <a:latin typeface="Calibri"/>
              </a:rPr>
              <a:t>from where</a:t>
            </a:r>
            <a:r>
              <a:rPr b="0" lang="en-GB" sz="800" spc="-1" strike="noStrike">
                <a:solidFill>
                  <a:srgbClr val="000000"/>
                </a:solidFill>
                <a:latin typeface="Calibri"/>
              </a:rPr>
              <a:t> it is accessibl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lassical approach on territorial competence to obtain evidence, would completely paralyse any investigation, when only the statement of a suspect that he himself doesn’t know in which country his data is stored, would be able to stop all further action.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Conclu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ery clear that with the internet came a globalisation of (cyber)crime. If the competent authorities want to fight cybercrime and do not want to have to stop at every presumed border, broad competence rules are necessary. This makes it essential to have clear international agreements on what to do if more than one country considers itself competent to go to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there is a need for clear legal rules in order to be able to obtain evidence stored abroad quickly. Today’s day to day personal experiences do not seem promising. For that reason a further elaboration of the articles 19.2 and 32 of the Budapest Convention on Cybercrime is necessary. In the meantime solutions of the member states can help. The Belgian solution found in article 88ter of the BCCP can be used as an example on how to obtain digital evidence expeditiousl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 that in a cybercrime context, another approach should apply. Cyberspace has no frontiers. Cloud computing and cloud storage make it difficult even to grasp where (parts of) data are stored. A classical approach of sovereignty and borders that have to be considered as solid concrete walls make the fight against cybercrime impossible. Political choices have to be mad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UFR8?</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um, April 2012 (updated in September 2012)</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is important if lawyers, judges and, more importantly from a prosecutor’s view, the jury is to give expert evidence the weight it deserves. Prosecutors need to consider the nature, location and volume of the material they are going to use as evidence to defend the interests of their clients at Court, plan how they are going to present this material, and finally present all the issues before the beginning of the procedure so that the trial is manage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of electronic evidence to the judge and jury (in adversarial law systems) needs to be visual, using computer demonstrations, video demonstration, computer graphics, schedules and charts. Prosecutors should be aware of the bias that using such technology can cause, and be prepared to discuss these issues with authority if the defence challenges the use of such techn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earch has found that people give more attention to what they see rather than hear. Since a prosecutors duty is to put forward the prosecution case in the best possible light, we therefore need to move to a visual presentation of evidence especially in complicated cases; for example by using computer demonstration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200" spc="-1" strike="noStrike" u="sng">
                <a:solidFill>
                  <a:srgbClr val="1f497d"/>
                </a:solidFill>
                <a:uFillTx/>
                <a:latin typeface="Calibri"/>
              </a:rPr>
              <a:t>The evidence will be challenged: be prepar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One of the most important things to know is the fact that all evidence will be challenged. Not only by the defence lawyers, but also in the deliberation of the judge. The Judge has to see to it that the evidence was correctly obtained, is reliable and if there are no legal grounds to have to exclude the evidence from his decision making.</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Not every evidence is allowed to be used in court. A lot depends of your legal system, about the laws treating the collection of evidence and the jurisprudence on this topic of your country. In some countries there are explicit rules in the Criminal Procedure Code that can cause the nullity of the evidence. In some countries the proof in criminal matters is totally free and it is up to all parties involved in a case to discuss in front of  the Judge about the evidence and what they mean the Judge should do with it. Some countries combine the previous two methodes of treating the eviden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speaks for itself that the defence lawyers will do their very best to explain to the Judge that the evidence is not trustworthy or was illegally obtained. It’s their job to do so. It would not be wise to think that the issues invoked by the defence can easily be solved the moment we find ourselves in court. Of course it is important to be prepared to go to court and to be prepared and able to demonstrated </a:t>
            </a:r>
            <a:r>
              <a:rPr b="1" lang="en-GB" sz="1200" spc="-1" strike="noStrike">
                <a:solidFill>
                  <a:srgbClr val="000000"/>
                </a:solidFill>
                <a:latin typeface="Calibri"/>
              </a:rPr>
              <a:t>the logic and legality of events</a:t>
            </a:r>
            <a:r>
              <a:rPr b="0" lang="en-GB" sz="1200" spc="-1" strike="noStrike">
                <a:solidFill>
                  <a:srgbClr val="000000"/>
                </a:solidFill>
                <a:latin typeface="Calibri"/>
              </a:rPr>
              <a:t> and about how the evidence was legaly obtained. It is even more important to see to it that even before the case is brought before court, one is prepared to meet all the challenges the defence lawyers could bring to the debates. Make sure that also the policeman and experts that are called up to witness are prepared the meet all the questions of the defence. In court chance only favours the prepared min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important that the prosecutor is </a:t>
            </a:r>
            <a:r>
              <a:rPr b="1" lang="en-US" sz="1200" spc="-1" strike="noStrike">
                <a:solidFill>
                  <a:srgbClr val="000000"/>
                </a:solidFill>
                <a:latin typeface="Calibri"/>
              </a:rPr>
              <a:t>aware of any weakness or limitation on the evidence that is provided</a:t>
            </a:r>
            <a:r>
              <a:rPr b="0" lang="en-US" sz="1200" spc="-1" strike="noStrike">
                <a:solidFill>
                  <a:srgbClr val="000000"/>
                </a:solidFill>
                <a:latin typeface="Calibri"/>
              </a:rPr>
              <a:t>. The prosecutor needs to be </a:t>
            </a:r>
            <a:r>
              <a:rPr b="1" lang="en-US" sz="1200" spc="-1" strike="noStrike">
                <a:solidFill>
                  <a:srgbClr val="000000"/>
                </a:solidFill>
                <a:latin typeface="Calibri"/>
              </a:rPr>
              <a:t>aware of any alternative explanations</a:t>
            </a:r>
            <a:r>
              <a:rPr b="0" lang="en-US" sz="1200" spc="-1" strike="noStrike">
                <a:solidFill>
                  <a:srgbClr val="000000"/>
                </a:solidFill>
                <a:latin typeface="Calibri"/>
              </a:rPr>
              <a:t>, not just the best, or the one he was hoping to hea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should be encouraged </a:t>
            </a:r>
            <a:r>
              <a:rPr b="1" lang="fr-BE" sz="1200" spc="-1" strike="noStrike">
                <a:solidFill>
                  <a:srgbClr val="000000"/>
                </a:solidFill>
                <a:latin typeface="Calibri"/>
              </a:rPr>
              <a:t>that also prosecutors and judges are capable tot deal with the basics of forensics en technical issues</a:t>
            </a:r>
            <a:r>
              <a:rPr b="0" lang="fr-BE" sz="1200" spc="-1" strike="noStrike">
                <a:solidFill>
                  <a:srgbClr val="000000"/>
                </a:solidFill>
                <a:latin typeface="Calibri"/>
              </a:rPr>
              <a:t>, so they can at least cope with the issues on that subject raised bij the defence lawy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prosecutors, defense representatives, judges, and juries all need to understand information and technology. Cases can fail if the prosecutor is not able to identify the issues that need to be decided in a case and present that case simply and concisely to the court, especially if there are technical aspects involved. Prosecutors and investigators need to be trained and equipped with specialist skills and knowledge to investigate and prosecute, especially when new technologies are involv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learn how computers and Internet services work; understand the reports of expert witnesses and be able to advise (and in some jurisdictions direct) the police on the investigation, and to supervise the collection and protection of the integrity of digital evidence in accordance with the principles for the seizure of digital evidence both within and outside the jurisdi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well-prepared case has a number of benefits; it is crucial that both the prosecutor and the investigator understand what their case actually 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ly then the prosecutor will be able to defend the evidence when challeng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If not the evidence itself can be challenged the person who collected it and the way in which will be challeng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Police officials that have to testify in court have to realise that certainly in cases where the evidence speaks for itself and where the evidence is incriminating for the suspect, the last escape for the defence will be the direct attack towards the person who collected the evidence and the way in which he or she did this.</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ertainly in more </a:t>
            </a:r>
            <a:r>
              <a:rPr b="1" lang="en-GB" sz="1200" spc="-1" strike="noStrike">
                <a:solidFill>
                  <a:srgbClr val="1f497d"/>
                </a:solidFill>
                <a:latin typeface="Calibri"/>
              </a:rPr>
              <a:t>Anglo-Saxon based legal systems</a:t>
            </a:r>
            <a:r>
              <a:rPr b="0" lang="en-GB" sz="1200" spc="-1" strike="noStrike">
                <a:solidFill>
                  <a:srgbClr val="1f497d"/>
                </a:solidFill>
                <a:latin typeface="Calibri"/>
              </a:rPr>
              <a:t> the </a:t>
            </a:r>
            <a:r>
              <a:rPr b="1" lang="en-GB" sz="1200" spc="-1" strike="noStrike">
                <a:solidFill>
                  <a:srgbClr val="1f497d"/>
                </a:solidFill>
                <a:latin typeface="Calibri"/>
              </a:rPr>
              <a:t>cross examination</a:t>
            </a:r>
            <a:r>
              <a:rPr b="0" lang="en-GB" sz="1200" spc="-1" strike="noStrike">
                <a:solidFill>
                  <a:srgbClr val="1f497d"/>
                </a:solidFill>
                <a:latin typeface="Calibri"/>
              </a:rPr>
              <a:t> of the police officers is an important part of the proving before court. In the continental based law systems this is less common. We certainly have to realise that the more proof can be challenged the more likely this examination of the examinators will take pla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Further in this presentation we will treat the specific characteristics of digital evidence. And at that point it will get more clear that there is a lot to challeng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Article 6 ECHR –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of the European Convention on Human Rights determines that everybody should have the right to a fair trial and enumerates what this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ECHR: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In the determination of his civil rights and obligations or of any criminal charge against him, everyone is entitled to </a:t>
            </a:r>
            <a:r>
              <a:rPr b="1" lang="en-GB" sz="1200" spc="-1" strike="noStrike">
                <a:solidFill>
                  <a:srgbClr val="1f497d"/>
                </a:solidFill>
                <a:latin typeface="Calibri"/>
              </a:rPr>
              <a:t>a fair and public hearing</a:t>
            </a:r>
            <a:r>
              <a:rPr b="0" lang="en-GB" sz="1200" spc="-1" strike="noStrike">
                <a:solidFill>
                  <a:srgbClr val="1f497d"/>
                </a:solidFill>
                <a:latin typeface="Calibri"/>
              </a:rPr>
              <a:t> within a reasonable time by an independent and impartial tribunal established by law. Judgment shall be pronounced publicly but the press and public may be excluded from all or part of the trial in the interests of morals, public order or national security in a democratic society, where the interests of juveniles or the protection of the private life of the parties so require, or to the extent strictly necessary in the opinion of the court in special circumstances where publicity would prejudice the interests of 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veryone charged with a criminal offence shall be presumed innocent until proved guilty according to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Everyone charged with a criminal offence has the following minimum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to be </a:t>
            </a:r>
            <a:r>
              <a:rPr b="1" lang="en-GB" sz="1200" spc="-1" strike="noStrike">
                <a:solidFill>
                  <a:srgbClr val="1f497d"/>
                </a:solidFill>
                <a:latin typeface="Calibri"/>
              </a:rPr>
              <a:t>informed promptly</a:t>
            </a:r>
            <a:r>
              <a:rPr b="0" lang="en-GB" sz="1200" spc="-1" strike="noStrike">
                <a:solidFill>
                  <a:srgbClr val="1f497d"/>
                </a:solidFill>
                <a:latin typeface="Calibri"/>
              </a:rPr>
              <a:t>, in a language which he understands and in detail, of the nature and cause of the accusation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to have </a:t>
            </a:r>
            <a:r>
              <a:rPr b="1" lang="en-GB" sz="1200" spc="-1" strike="noStrike">
                <a:solidFill>
                  <a:srgbClr val="1f497d"/>
                </a:solidFill>
                <a:latin typeface="Calibri"/>
              </a:rPr>
              <a:t>adequate time and facilities</a:t>
            </a:r>
            <a:r>
              <a:rPr b="0" lang="en-GB" sz="1200" spc="-1" strike="noStrike">
                <a:solidFill>
                  <a:srgbClr val="1f497d"/>
                </a:solidFill>
                <a:latin typeface="Calibri"/>
              </a:rPr>
              <a:t> for the preparation of his def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to defend himself in person or through legal assistance of his own choosing or, if he has not sufficient means to pay for legal assistance, to be given it free when the interests of justice so requ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en-GB" sz="1200" spc="-1" strike="noStrike">
                <a:solidFill>
                  <a:srgbClr val="1f497d"/>
                </a:solidFill>
                <a:latin typeface="Calibri"/>
              </a:rPr>
              <a:t>to examine or have examined witnesses against him</a:t>
            </a:r>
            <a:r>
              <a:rPr b="0" lang="en-GB" sz="1200" spc="-1" strike="noStrike">
                <a:solidFill>
                  <a:srgbClr val="1f497d"/>
                </a:solidFill>
                <a:latin typeface="Calibri"/>
              </a:rPr>
              <a:t> and to obtain the attendance and examination of witnesses on his behalf under the same conditions as witnesses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to have the free assistance of an interpreter if he cannot understand or speak the language us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n short this means that when someone is prosecuted and when this person faces a judgement in court, that he or she should have the occasion to understand what the prosecution is all about and that he or she should be in de possibility to discuss the evidence that is presented. One should be informed, have the time and facilities to prepare his defence and challenge not only the witnesses but all the evidence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t depends from country to country how this is organized and at what time the evidence is presented to the defence (lawy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122031"/>
                </a:solidFill>
                <a:uFillTx/>
                <a:latin typeface="Calibri"/>
              </a:rPr>
              <a:t>How to present the evidence to a cour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Even when you follow the basics of trial strategy, you still have to keep in mind, as we said before, that </a:t>
            </a:r>
            <a:r>
              <a:rPr b="1" lang="en-GB" sz="1400" spc="-1" strike="noStrike">
                <a:solidFill>
                  <a:srgbClr val="1f497d"/>
                </a:solidFill>
                <a:latin typeface="Calibri"/>
              </a:rPr>
              <a:t>not everybody in the courtroom shares the same expertise</a:t>
            </a:r>
            <a:r>
              <a:rPr b="0" lang="en-GB" sz="1400" spc="-1" strike="noStrike">
                <a:solidFill>
                  <a:srgbClr val="1f497d"/>
                </a:solidFill>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When you start presenting your case, you should build your evidence on a solid ground: make sure that you document every step and show the logic of events before you show the evidence to the judge. Consider calling up expert-witnesses who are able to translate forensics in human language. As a reminder, this meets all the requirements of article 6 ECHR.</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Never forget to first learn to walk before you run. First explain the basics (maybe use a PowerPoint presentation, or a lexicon) and then go in to the difficult forensic stuff (it has no use whatsoever to try to convince a judge about high-tech evidence, when the judge doesn’t know what an IP-address means).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Build up the case from the level of your judge</a:t>
            </a:r>
            <a:r>
              <a:rPr b="0" lang="en-GB"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Do not provoke arguments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legality of the prosecution is presumed in most continental European countries. This could be different in Anglo-Saxon countri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f course, the judge officially has to examine all aspects of the admissibility of the prosecut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epending on the national law about ‘evidence’ and ‘proof’, the admissibility and legality of evidence not always has to be involved in the indictment.</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your national law does not require that you proof the legality and/or admissibility of evidence or collection of evidence, don’t bring it up yourself; you could inspire the defense lawyers to bring it under discuss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Set the pa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ce lawyers bring you out of bala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efense most probably has a defense plan. If the defense manages to get you to follow their defence plan, their work is half don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t the pace. Try to master the cadence of the procedure. Try to set the pace and manage the procedural agend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or example: if the defense provokes a postponement by handing over their written statement/conclusions at the last moment, you should consider not to ask for a delay to study their statement. Tomorrow never com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3C7C0-1539-4B3E-88A0-4845B57B7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gital forensics specialist witnes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vestigator or the prosecutor may need to retain a forensic specialist during an investigation. This may be necessary because a specific type of specialism is required, for example knowledge of a particular operating system or Internet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key question to be answered in selecting a witness is whether they have the required knowledge that has been acquired by study or experience to render their opinion of value in resolving the iss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form of accreditation can be helpful, because it enhances the credibility of forensic witnesses called by both the prosecution and the defense, as well as providing an objective and independent assessment of the credentials of the experts that the court will rely 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consultation between the investigating officers, the forensic witness and the prosecutor is essential for a successful investigation and prosecution. Police and prosecutors should ensure that the forensic examiner is given clear instructions. Investigators must provide detailed and proper schedu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lection of external consulting witnesses, particularly in the more unusual or highly technical areas, can be a problem for the investigator. The process of selection should not be haphazard, but active and structured from the start. Computer crime units may be able to offer more advice on the criteria for se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guidance should be included when making a selection and the following areas are considered to be the foundation of independent consulting witness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ti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skill or competence to do a particular job, to include such issues 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individual’s relevant qualific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skill of the person at this particular job.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specific skills that he or she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Whether the skill is based on technical qualifications or length of experience, or bo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nature of the experience of this type of work the individual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number of cases he or she been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type of cases the individual was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The length of time the individual has been working in this are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Evidence to prove their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vestigative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nature of investigations in terms of confidentiality, relevance and the distinction betwe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Intelli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extu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different approaches, language, philosophies, practices and roles of the police, the law, and the technical knowledge of Information Technology is essential to guarantee the viability of electronic evidence at Court. Fundamental to this is the understanding of probability in its broadest sense and differences between scientific proof and legal proo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g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of relevant aspects of law such as legal concepts and procedures in relation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Continu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Court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 clear understanding of the roles and responsibilities of the expert witness is essent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unication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ility to express and explain in ordinary language, both verbally and in wri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ure of specialis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echniques and equipment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ethods of interpre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Strengths and weaknesses of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ve explan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r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leared to appropriate security level to handle the evidential mater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Made aware of any relevant paedophilic material guidel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ade aware of the effect on members of staff of such material and risk assess appropriately.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E40BF-ED95-4F33-8B5D-A11E4AC55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role of the exp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chapter 9.3.2 of the CoE Electronic Evidence Gu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riminal trials, it is possible to allow the opinion of an expert where the issues that the court is required to determine are far removed from the experience and knowledge of the adjudicator. Where a matter does call for such evidence, only a suitably qualified expert can give 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no specific requirement for expert witnesses to have qualifications. What is required is that the expert can, because of experience, study or a combination of both, provide valuable opinion on an issue that the court cannot by itself resolve. (The position is difference in a number of European coun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pert witness must also be independent and impartial. An expert witness owes a duty to the court, not to the client. He or she should identify and bring attention to any weakness or limitation on the evidence that is provided. The prosecutor needs to be aware of any alternative explanations, not just the best, or the one that the prosecutor was hoping to hear. Statements of experts should be as simple as possible with pict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ensic witness is an expert witness if deemed so by the judge after hearing evidence of the qualifications and or experience of the witnesses. Irrespective of which party to the proceedings has instructed him, the forensic witness is </a:t>
            </a:r>
            <a:r>
              <a:rPr b="1" lang="en-US" sz="1200" spc="-1" strike="noStrike">
                <a:solidFill>
                  <a:srgbClr val="000000"/>
                </a:solidFill>
                <a:latin typeface="Calibri"/>
              </a:rPr>
              <a:t>a servant of the court</a:t>
            </a:r>
            <a:r>
              <a:rPr b="0" lang="en-US" sz="1200" spc="-1" strike="noStrike">
                <a:solidFill>
                  <a:srgbClr val="000000"/>
                </a:solidFill>
                <a:latin typeface="Calibri"/>
              </a:rPr>
              <a:t> and is there to help the court to understand the complex evidence, which is outside the normal experience of the cou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both the prosecution and the defense have a forensic witness, the witnesses will normally be allowed to give opinion evidence on the facts of the case. This is in contrast to all other witnesses who usually can only give evidence of what they have personally observed. Expert witnesses will normally be paid by the party calling them and will have been expected to have exchanged reports, agree any issues that are not in dispute and agree a glossary of ter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re are an increasing number of cases involving electronic evidence stored on computer systems or other devices. Judges (like prosecutors and investigators) must be prepared to deal with cybercrime and electronic evidence. In most cases, judges (like prosecutors and investigators) encounter difficulties in coping with the new realities of the cyber world and need to be trained in the knowledge and understanding of cybercrime and electronic evidence. They should also be expected to continue their professional development independently. For this reason, judges and prosecutors must be encouraged to contribute to the enhancement of their knowledge and experience through networking both domestically and internationally with other judges and prosecutors. </a:t>
            </a:r>
            <a:endParaRPr b="0" lang="en-US" sz="1200" spc="-1" strike="noStrike">
              <a:solidFill>
                <a:srgbClr val="000000"/>
              </a:solidFill>
              <a:latin typeface="Calibri"/>
            </a:endParaRPr>
          </a:p>
        </p:txBody>
      </p:sp>
      <p:sp>
        <p:nvSpPr>
          <p:cNvPr id="4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0ACCA-778E-4255-94D5-4D0656696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000" spc="-1" strike="noStrike" u="sng">
                <a:solidFill>
                  <a:srgbClr val="1f497d"/>
                </a:solidFill>
                <a:uFillTx/>
                <a:latin typeface="Calibri"/>
              </a:rPr>
              <a:t>Think about presentation methods</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s a cybercrime public prosecutor or investigator, don’t forget to use the beautiful tools that ICT brought us.</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nsider a powerpoint presentation to make the case “ready-to-eat”, offer a lexicon in which all technical en specific terms are defined, offer a summary of the case to make the story readable and finally show the evidence. Also, c</a:t>
            </a:r>
            <a:r>
              <a:rPr b="0" lang="en-GB" sz="1200" spc="-1" strike="noStrike">
                <a:solidFill>
                  <a:srgbClr val="000000"/>
                </a:solidFill>
                <a:latin typeface="Calibri"/>
              </a:rPr>
              <a:t>onsider a short explanation on electronic evidence/technology relevant to the case, to set a base standard for all those in the court, so that at least they may have a chance of understanding the cas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EA0E5-24BA-4634-B840-F27FBFA84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Things to take in consideration when your law system and means permit i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000000"/>
                </a:solidFill>
                <a:latin typeface="Calibri"/>
              </a:rPr>
              <a:t>As mentionned, there’s a big difference between the inquisitorial law system and the adversarial law system. In the adversarial law system, everything happens in court, in front of the judge and jury; they probably will have no foreknowledge about the case. You have to adjust your presentation methods according the situation.</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Run a suspect machine/image in court to demonstrate the presence of evidence on the system or to be abel to show how the crime was committed</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ome presentation methods that are suggested are not or rarely used in an inquisitorial court. In an inquisitorial procedure all the evidence gathering and evidence samples are shown and described in the police reports. If a lawyer wants to contest the reports, he goes to the registrar and asks for access to the seized evidence, which will be given to him/her. He will check if he can find an argument. If not, he will never bring up the 'showing and demonstration' of the evidence in court. In an inquisitorial procedure we would normally not consider running the suspects machine to show what's on it or to show how the crime was commited; it's in the police reports in the file, and there's no jury without foreknowledge you'll have to convince.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1f497d"/>
                </a:solidFill>
                <a:uFillTx/>
                <a:latin typeface="Calibri"/>
              </a:rPr>
              <a:t>Present the evidence to the parties on computer screens </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t would be a dream to have computers or computerscreens for everyone in court, but for now this is not reality in inquisitorial courts. Any presentation of the case/evidence is done with rather conventional tools as described in the previous slides (a powerpoint presentation and/or a beamer (if you have some footage to show), if it seems that it will have an added value in order to give an overview or summary of the case). In most cases, the prosecutor will present the case orally. In an inquisitorial court, sometimes 20 cases have to be treated before noon...</a:t>
            </a:r>
            <a:br>
              <a:rPr sz="1000"/>
            </a:br>
            <a:endParaRPr b="0" lang="en-US" sz="1000" spc="-1" strike="noStrike">
              <a:solidFill>
                <a:srgbClr val="000000"/>
              </a:solidFill>
              <a:latin typeface="Calibri"/>
            </a:endParaRPr>
          </a:p>
        </p:txBody>
      </p:sp>
      <p:sp>
        <p:nvSpPr>
          <p:cNvPr id="4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6E1BE-4D47-4CCC-9E59-B99960939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49737-F99F-4753-8357-A6FCDAD1A6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0496-EEAF-4E58-97C0-C13E1B490339}"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u="sng">
                <a:solidFill>
                  <a:srgbClr val="1f497d"/>
                </a:solidFill>
                <a:uFillTx/>
                <a:latin typeface="Calibri"/>
              </a:rPr>
              <a:t>Adversarial and inquisitorial approach</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Most continental European countries have an </a:t>
            </a:r>
            <a:r>
              <a:rPr b="1" lang="fr-BE" sz="700" spc="-1" strike="noStrike">
                <a:solidFill>
                  <a:srgbClr val="1f497d"/>
                </a:solidFill>
                <a:latin typeface="Calibri"/>
              </a:rPr>
              <a:t>inquisitorial criminal procedure</a:t>
            </a:r>
            <a:r>
              <a:rPr b="0" lang="fr-BE" sz="700" spc="-1" strike="noStrike">
                <a:solidFill>
                  <a:srgbClr val="1f497d"/>
                </a:solidFill>
                <a:latin typeface="Calibri"/>
              </a:rPr>
              <a:t>, which means that </a:t>
            </a:r>
            <a:r>
              <a:rPr b="1" lang="fr-BE" sz="700" spc="-1" strike="noStrike">
                <a:solidFill>
                  <a:srgbClr val="1f497d"/>
                </a:solidFill>
                <a:latin typeface="Calibri"/>
              </a:rPr>
              <a:t>the heart of the search for the truth is situated in the investigation phase</a:t>
            </a:r>
            <a:r>
              <a:rPr b="0" lang="fr-BE" sz="700" spc="-1" strike="noStrike">
                <a:solidFill>
                  <a:srgbClr val="1f497d"/>
                </a:solidFill>
                <a:latin typeface="Calibri"/>
              </a:rPr>
              <a:t>.</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Digital evidence, as well as other evidence, is ought to be gathered, seized and analyzed before going to court. All relevant witnesses have to be heard during the investigation.</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Experts have to deliver their reports before going to court. In an inquisitorial law system, the investigation normally is led by an investigative judge and/or the prosecutor, and executed by the police. The investigative judge and/or the prosecutor take full responsibility for the quality, loyalty and legality of the investigation, and they are obliged to search for evidence for the prosecution </a:t>
            </a:r>
            <a:r>
              <a:rPr b="0" i="1" lang="fr-BE" sz="700" spc="-1" strike="noStrike">
                <a:solidFill>
                  <a:srgbClr val="1f497d"/>
                </a:solidFill>
                <a:latin typeface="Calibri"/>
              </a:rPr>
              <a:t>and</a:t>
            </a:r>
            <a:r>
              <a:rPr b="0" lang="fr-BE" sz="700" spc="-1" strike="noStrike">
                <a:solidFill>
                  <a:srgbClr val="1f497d"/>
                </a:solidFill>
                <a:latin typeface="Calibri"/>
              </a:rPr>
              <a:t> for the defence.</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From the moment that the prosecutor decides to bring the case before court with a summon, subpoena and/or indictment, all the evidence will be legally available to the defendant in order to prepare his defence together with his lawyers. Normally, at that point, the investigation is considered to be complete, without prejudice of course to the right of the defence to convince the judge otherwise. Once in court, t</a:t>
            </a:r>
            <a:r>
              <a:rPr b="0" lang="en-GB" sz="1000" spc="-1" strike="noStrike">
                <a:solidFill>
                  <a:srgbClr val="000000"/>
                </a:solidFill>
                <a:latin typeface="Calibri"/>
              </a:rPr>
              <a:t>he judge plays the central role in finding the truth and the examination of all the evidence (that has been gathered during the investigation) that either proves the innocence or guilt of the accused before the court.</a:t>
            </a:r>
            <a:r>
              <a:rPr b="0" lang="fr-BE" sz="700" spc="-1" strike="noStrike">
                <a:solidFill>
                  <a:srgbClr val="1f497d"/>
                </a:solidFill>
                <a:latin typeface="Calibri"/>
              </a:rPr>
              <a:t> If certain witness statements are called into question, the witnesses can be called up to witness in court. It’s the</a:t>
            </a:r>
            <a:r>
              <a:rPr b="0" lang="en-GB" sz="1000" spc="-1" strike="noStrike">
                <a:solidFill>
                  <a:srgbClr val="000000"/>
                </a:solidFill>
                <a:latin typeface="Calibri"/>
              </a:rPr>
              <a:t> judge that questions witnesses in depth and can even ask the prosecutor to call witnesses to appear, while prosecution and defence parties can ask follow up questions. </a:t>
            </a:r>
            <a:endParaRPr b="0" lang="en-US" sz="10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most continental European countries it is nevertheless not standard procedure to call up witnesses and expert-witnesses for every trial.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an inquisitorial law system, t</a:t>
            </a:r>
            <a:r>
              <a:rPr b="0" lang="en-GB" sz="700" spc="-1" strike="noStrike">
                <a:solidFill>
                  <a:srgbClr val="000000"/>
                </a:solidFill>
                <a:latin typeface="Calibri"/>
              </a:rPr>
              <a:t>he rules of admissibility of evidence may also allow the judge to act more like an inquisitor than an arbiter of justice.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system of justice in the common law countries is based on the </a:t>
            </a:r>
            <a:r>
              <a:rPr b="1" lang="en-GB" sz="1000" spc="-1" strike="noStrike">
                <a:solidFill>
                  <a:srgbClr val="000000"/>
                </a:solidFill>
                <a:latin typeface="Calibri"/>
              </a:rPr>
              <a:t>adversarial model</a:t>
            </a:r>
            <a:r>
              <a:rPr b="0" lang="en-GB" sz="1000" spc="-1" strike="noStrike">
                <a:solidFill>
                  <a:srgbClr val="000000"/>
                </a:solidFill>
                <a:latin typeface="Calibri"/>
              </a:rPr>
              <a:t>. The adversarial system implies that two parties assume opposite positions in debating the guilt or innocence of an individual. In this scenario, </a:t>
            </a:r>
            <a:r>
              <a:rPr b="1" lang="en-GB" sz="1000" spc="-1" strike="noStrike">
                <a:solidFill>
                  <a:srgbClr val="000000"/>
                </a:solidFill>
                <a:latin typeface="Calibri"/>
              </a:rPr>
              <a:t>the judge is required to be neutral</a:t>
            </a:r>
            <a:r>
              <a:rPr b="0" lang="en-GB" sz="1000" spc="-1" strike="noStrike">
                <a:solidFill>
                  <a:srgbClr val="000000"/>
                </a:solidFill>
                <a:latin typeface="Calibri"/>
              </a:rPr>
              <a:t> at the contest unfolding before him or her. The role of the judge in this arrangement is to ensure the trial proceeds according to the procedural rules of trial or due process of law and that evidence entered is done so according to established rules and guideli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basis of this approach in criminal matters in which two sides engage in debate and battle about the guilt or innocence of an accused and since each side wants to win, then the debate will foster a critical look at the issues and the calling of evidence to be examined by both parties. By engaging in this discourse, the truth should emerge as the judge watches on. This means that the roles played by the various court officers are very distinct. The defence counsel as one adversarial party gather the arguments to defend the client and attacks the credibility and worthiness of the evidence presented by the prosecutor. The prosecutor puts forth the arguments on behalf of the state and gathers and presents the evidence pointing that the accused has committed an offence. The judge is the referee and arbitrator on issues related to clarifying what the law is. The judge does not intervene on any side except where procedural fairness is jeopardized by either party.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evidence and witnesses that are called are left up to the two arguing parties, the defence counsel and the prosecutor. The judge is not involved in what is presented to the court. If the prosecutor wishes not to call certain evidence or individuals as witnesses even though it may help shed light on the case, </a:t>
            </a:r>
            <a:r>
              <a:rPr b="1" lang="en-GB" sz="1000" spc="-1" strike="noStrike">
                <a:solidFill>
                  <a:srgbClr val="000000"/>
                </a:solidFill>
                <a:latin typeface="Calibri"/>
              </a:rPr>
              <a:t>the judge cannot intervene</a:t>
            </a:r>
            <a:r>
              <a:rPr b="0" lang="en-GB" sz="1000" spc="-1" strike="noStrike">
                <a:solidFill>
                  <a:srgbClr val="000000"/>
                </a:solidFill>
                <a:latin typeface="Calibri"/>
              </a:rPr>
              <a:t>. This leaves the two parties in charge of the case and the direction it tak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judge reserves comment until all evidence from both parties are heard;</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makes the judge appear more neutral since judgement must be reserved until all the evidence is hear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dis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finding of evidence rests on the resources of the two parties which may be unequa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parties only provide evidence favourable to their arguments.</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So, in common law countries, when going to court, you will have to take in account specific engagements:</a:t>
            </a:r>
            <a:endParaRPr b="0" lang="en-US" sz="7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eal with </a:t>
            </a:r>
            <a:r>
              <a:rPr b="0" lang="en-GB" sz="400" spc="-1" strike="noStrike">
                <a:solidFill>
                  <a:srgbClr val="1f497d"/>
                </a:solidFill>
                <a:latin typeface="Calibri"/>
              </a:rPr>
              <a:t>witnesses in other jurisdictions</a:t>
            </a:r>
            <a:r>
              <a:rPr b="1" lang="en-GB" sz="400" spc="-1" strike="noStrike">
                <a:solidFill>
                  <a:srgbClr val="1f497d"/>
                </a:solidFill>
                <a:latin typeface="Calibri"/>
              </a:rPr>
              <a:t> </a:t>
            </a:r>
            <a:r>
              <a:rPr b="0" lang="en-GB" sz="400" spc="-1" strike="noStrike">
                <a:solidFill>
                  <a:srgbClr val="000000"/>
                </a:solidFill>
                <a:latin typeface="Calibri"/>
              </a:rPr>
              <a:t>during the proceeding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Deal with the expert witness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Accurately complete or update</a:t>
            </a:r>
            <a:r>
              <a:rPr b="1" lang="en-GB" sz="400" spc="-1" strike="noStrike">
                <a:solidFill>
                  <a:srgbClr val="000000"/>
                </a:solidFill>
                <a:latin typeface="Calibri"/>
              </a:rPr>
              <a:t> </a:t>
            </a:r>
            <a:r>
              <a:rPr b="0" lang="en-GB" sz="400" spc="-1" strike="noStrike">
                <a:solidFill>
                  <a:srgbClr val="000000"/>
                </a:solidFill>
                <a:latin typeface="Calibri"/>
              </a:rPr>
              <a:t>all relevant documentation and procedur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Ensure that appropriate files and supporting documents are prepared, and </a:t>
            </a:r>
            <a:r>
              <a:rPr b="0" lang="en-GB" sz="400" spc="-1" strike="noStrike">
                <a:solidFill>
                  <a:srgbClr val="1f497d"/>
                </a:solidFill>
                <a:latin typeface="Calibri"/>
              </a:rPr>
              <a:t>present them in the required format within relevant time limit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isclose evidence to the defence;</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Take in account you will have </a:t>
            </a:r>
            <a:r>
              <a:rPr b="1" lang="fr-BE" sz="400" spc="-1" strike="noStrike">
                <a:solidFill>
                  <a:srgbClr val="000000"/>
                </a:solidFill>
                <a:latin typeface="Calibri"/>
              </a:rPr>
              <a:t>a jury trial</a:t>
            </a:r>
            <a:r>
              <a:rPr b="0" lang="fr-BE" sz="400" spc="-1" strike="noStrike">
                <a:solidFill>
                  <a:srgbClr val="000000"/>
                </a:solidFill>
                <a:latin typeface="Calibri"/>
              </a:rPr>
              <a:t>;</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As said, in most continental legal systems, most of these aspects are situated in the investigation pha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u="sng">
                <a:solidFill>
                  <a:srgbClr val="000000"/>
                </a:solidFill>
                <a:uFillTx/>
                <a:latin typeface="Calibri"/>
              </a:rPr>
              <a:t>Manage the prosecu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See chapter 9.2.2. of the CoE Electronic Evidence Guid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right to a fair trial is sacrosanct, and the responsibility of the prosecution team in terms of gathering, preserving and presenting electronic evidence to a court remain uppermost. Each member of the prosecution team will have a clearly identified role to play. There should be regular case conferences by the prosecutor with the police and other relevant personnel throughout the life of the case. Following prosecution, there should be formal de-briefing sessions involving all participants to help both identify and disseminate any lessons to be lear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ybercrime knows no geographical boundaries; prosecutors therefore have an increasing role in facilitating cross-border liaison. Obtaining electronic evidence through mutual legal assistance and extradition will play an increasing role as criminals use the networked world to commit crimes. Prosecutors will have to work alongside investigators from their own jurisdictions and prosecutors and investigators from other countries; effectively becoming joint teams to be efficient and carry out linked investigations and prosecu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should provide guidance and advice to investigators throughout the investigative and prosecuting process. This may include lines of inquiry, evidential requirements and assistance in any pre-charge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will be proactive in identifying, and where possible, rectifying electronic evidential deficiencies and to bring an early conclusion to those cases that cannot be strengthened by further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have in mind that each case is unique and must be considered on its own facts and merits to be able to determine accurately what measures are needed to ensure the result of the investigation. </a:t>
            </a:r>
            <a:endParaRPr b="0" lang="en-US" sz="1200" spc="-1" strike="noStrike">
              <a:solidFill>
                <a:srgbClr val="000000"/>
              </a:solidFill>
              <a:latin typeface="Calibri"/>
            </a:endParaRPr>
          </a:p>
          <a:p>
            <a:pPr indent="0">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t is crucial that you evaluate the evidence and the </a:t>
            </a:r>
            <a:r>
              <a:rPr b="1" lang="fr-BE" sz="700" spc="-1" strike="noStrike">
                <a:solidFill>
                  <a:srgbClr val="000000"/>
                </a:solidFill>
                <a:latin typeface="Calibri"/>
              </a:rPr>
              <a:t>quantity</a:t>
            </a:r>
            <a:r>
              <a:rPr b="0" lang="fr-BE" sz="700" spc="-1" strike="noStrike">
                <a:solidFill>
                  <a:srgbClr val="000000"/>
                </a:solidFill>
                <a:latin typeface="Calibri"/>
              </a:rPr>
              <a:t> of crimes that have been discovered during the investigation from the angle of an effective and efficient prosecu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One of the biggest mistakes that a prosecutor can make is to overload the prosecution with details and minor fact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Try to value the well-known saying: « </a:t>
            </a:r>
            <a:r>
              <a:rPr b="0" i="1" lang="fr-BE" sz="700" spc="-1" strike="noStrike">
                <a:solidFill>
                  <a:srgbClr val="000000"/>
                </a:solidFill>
                <a:latin typeface="Calibri"/>
              </a:rPr>
              <a:t>De minimis non curat praetor</a:t>
            </a:r>
            <a:r>
              <a:rPr b="0" lang="fr-BE" sz="700" spc="-1" strike="noStrike">
                <a:solidFill>
                  <a:srgbClr val="000000"/>
                </a:solidFill>
                <a:latin typeface="Calibri"/>
              </a:rPr>
              <a:t> ».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able to flawlessly  proof in court 5 crimes, try to focus on those 5 crimes. Don’t be temped to go into a massive prosecution for crimes for which the evidence is too circumstantial or not certain, it will infect the authority and credibility of the evidence for the other crim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Less is more, certainly in cybercrim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Managing the prosecution also means that you have to evaluate not only the quantity of evidence and findings, but also the </a:t>
            </a:r>
            <a:r>
              <a:rPr b="1" lang="fr-BE" sz="700" spc="-1" strike="noStrike">
                <a:solidFill>
                  <a:srgbClr val="000000"/>
                </a:solidFill>
                <a:latin typeface="Calibri"/>
              </a:rPr>
              <a:t>quality</a:t>
            </a:r>
            <a:r>
              <a:rPr b="0" lang="fr-BE"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a:solidFill>
                  <a:srgbClr val="000000"/>
                </a:solidFill>
                <a:latin typeface="Calibri"/>
              </a:rPr>
              <a:t>Be your own first judge!</a:t>
            </a:r>
            <a:r>
              <a:rPr b="0" lang="fr-BE" sz="700" spc="-1" strike="noStrike">
                <a:solidFill>
                  <a:srgbClr val="000000"/>
                </a:solidFill>
                <a:latin typeface="Calibri"/>
              </a:rPr>
              <a:t> It is very important to </a:t>
            </a:r>
            <a:r>
              <a:rPr b="1" lang="fr-BE" sz="700" spc="-1" strike="noStrike">
                <a:solidFill>
                  <a:srgbClr val="000000"/>
                </a:solidFill>
                <a:latin typeface="Calibri"/>
              </a:rPr>
              <a:t>not weaken the prosecution with uncertain factors</a:t>
            </a:r>
            <a:r>
              <a:rPr b="0" lang="fr-BE" sz="700" spc="-1" strike="noStrike">
                <a:solidFill>
                  <a:srgbClr val="000000"/>
                </a:solidFill>
                <a:latin typeface="Calibri"/>
              </a:rPr>
              <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not convinced yourself, don’t try to convince a judge;</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there’s any doubt about the legality of some evidence, don’t try to involve it against all od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Make a prosecution pla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se lawyers bring you out of balance. The defense most probably has a defense plan. If the defense manages to get you to follow their defence plan, their work is half done. 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double-check the evide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integrity and authenticity of the evidence is crucial.</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igital evidence (the forensic back-ups, the seized hard-ware and software, …) is not always shown and used in court as long as it’s not brought under discussion by the defense lawyers. Anyway, double-check the integrity of the evidence. Is it still there? Are the forensic back-ups still intact in case the defense lawyers brings them under discussion? These question should be unnecessary, but most often mistakes happen. Digital evidence is fragil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Disclosur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4 en 9.2.3 of the CoE Electronic Evidence Guid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jurisdiction has different rules and procedures for disclosing evidence to the defence. Usually, the investigator, the prosecutor and the investigative judge have an obligation to pursue all reasonable lines of enquiry whether these point towards or away from the suspect. The deletion of any police generated material or third-party material in possession of the police, prior to their respective retention periods, may amount to a breach if they are not available for disclosure. In practice this means that police generated evidence should be accompanied by a full audit trail, from the point of capture of the evidence until they are passed to the prosecution and throughout the whole management proces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ny investigation, material that will not be relied upon in electronic evidence will be obtained. A defendant should have a fair trial in accordance with article 6 of the European Convention on Human Rights (ECHR). </a:t>
            </a:r>
            <a:r>
              <a:rPr b="1" lang="en-GB" sz="1200" spc="-1" strike="noStrike">
                <a:solidFill>
                  <a:srgbClr val="000000"/>
                </a:solidFill>
                <a:latin typeface="Calibri"/>
              </a:rPr>
              <a:t>The investigator should identify material that might either undermine the prosecution case or assist the defence ca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or does this by using search terms or dip sampling methods, and describes the material on the disclosure schedules and, because of the large volume of digital material seized, it might not be possible to identify all of the evidence. In such cases, it is important to record relevant decisions, along with the justification for adopting the approach that is tak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ome jurisdictions, disclosure is one of the most important issues in the criminal justice system, and the application of proper and fair disclosure is a vital component of a fair criminal justice system. </a:t>
            </a:r>
            <a:r>
              <a:rPr b="1" lang="en-GB" sz="1200" spc="-1" strike="noStrike">
                <a:solidFill>
                  <a:srgbClr val="000000"/>
                </a:solidFill>
                <a:latin typeface="Calibri"/>
              </a:rPr>
              <a:t>The ‘golden rule’ is that fairness requires that full disclosure should be made of all the material held by the prosecution: including evidence that weakens its case or strengthens that of the defen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must be fair and objective and must work together with prosecutors to ensure that disclosure obligations are met. Investigators must retain material that may be relevant to the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do all that they can to facilitate proper disclosure, as part of their general and personal professional responsibility to act fairly and impartially, in the interests of justice and in accordance with the law. Prosecutors must also be alert to the need to provide advice to, and where necessary, probe actions taken by investigators to ensure that disclosure obligations are me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Problems digital evidence </a:t>
            </a:r>
            <a:r>
              <a:rPr b="0" lang="en-GB" sz="1200" spc="-1" strike="noStrike" u="sng">
                <a:solidFill>
                  <a:srgbClr val="1f497d"/>
                </a:solidFill>
                <a:uFillTx/>
                <a:latin typeface="Calibri"/>
              </a:rPr>
              <a:t>(also see next slid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igital evidence can not be treated like any other evidence, because it is:</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Volatile, what means that it can easily dissapear;</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asy to manipulate, what means that we always have to be sure and be able to reassure that the evidence was not tampered with;</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Difficult to obtain, this due to encryption, size, location, cloud storag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Difficult to prove the origin and the authenticity, because we often collect it in a virtual way (we do not always seize it in a classical way, like for example we seize a gun);</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Knows no territorial frontiers, what means that we do not always now which laws apply and if this foreign evidence was collected in a legal wa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68F0F-CBCB-4A54-AD84-D30A478E7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u="sng">
                <a:solidFill>
                  <a:srgbClr val="122031"/>
                </a:solidFill>
                <a:uFillTx/>
                <a:latin typeface="Calibri"/>
              </a:rPr>
              <a:t>Best practices for digital evidence </a:t>
            </a: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22031"/>
                </a:solidFill>
                <a:latin typeface="Calibri"/>
              </a:rPr>
              <a:t>How do we cope before court when we use digital evidence. As we said, this evidence is special and needs a special treatment. A lot of challenges and problems exist, but we wouldn’t be here if we do not think that a lot of problems can be solv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Volatil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Be fast and be aware of ≠ dataretention rules worldwid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hen you investigate an axe murder, at a certain point you will seize the axe and you are certain that this axe will not disappear. This is not the case with digital evidence. Since this is electromagnetic or optical evidence, the way in which this evidence is collected is very important, as it is with the way it is stor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But with digital evidence the challenges are even higher. Since data is not always stored, or is sometimes only stored for a very short time, we have to act fast and collect everything we need and might need for a debate in court. We do not get a second chance, or the possibility  to go back in time. Once someone has pushed the delete button, all evidence is g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always have to take in consideration the data retention rules of our own country and the countries with who we have to work togethe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have to be aware that for the European countries this can be in between six months and twenty-four months (</a:t>
            </a:r>
            <a:r>
              <a:rPr b="0" lang="en-US" sz="900" spc="-1" strike="noStrike">
                <a:solidFill>
                  <a:srgbClr val="000000"/>
                </a:solidFill>
                <a:latin typeface="Calibri"/>
              </a:rPr>
              <a:t>Directive 2006/24/EC of the European Parliament and of the Council of 15 March 2006: “</a:t>
            </a:r>
            <a:r>
              <a:rPr b="0" i="1" lang="en-US" sz="900" spc="-1" strike="noStrike">
                <a:solidFill>
                  <a:srgbClr val="000000"/>
                </a:solidFill>
                <a:latin typeface="Calibri"/>
              </a:rPr>
              <a:t>Member States shall ensure that the categories of data specified in Article 5 are retained for periods of not less than six months and not more than two years from the date of the communication</a:t>
            </a:r>
            <a:r>
              <a:rPr b="0" lang="en-US" sz="900" spc="-1" strike="noStrike">
                <a:solidFill>
                  <a:srgbClr val="000000"/>
                </a:solidFill>
                <a:latin typeface="Calibri"/>
              </a:rPr>
              <a:t>.”)</a:t>
            </a:r>
            <a:r>
              <a:rPr b="0" lang="en-GB" sz="1000" spc="-1" strike="noStrike">
                <a:solidFill>
                  <a:srgbClr val="1f497d"/>
                </a:solidFill>
                <a:latin typeface="Calibri"/>
              </a:rPr>
              <a:t>, but that for example Microsoft, an in the USA based company, it is only ninety days (maximu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1f497d"/>
                </a:solidFill>
                <a:latin typeface="Calibri"/>
              </a:rPr>
              <a:t>This means that you must be aware that, from the moment that you are in court, digital evidence and data from the time of the crime most probably can not be gathered anymore. This means that you have to make sure, during the investigation, that you collect everything you need in due time. You will not have a second chance when you’re in cou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Easy to manipulat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Ensure the integrity</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internet is</a:t>
            </a:r>
            <a:r>
              <a:rPr b="0" lang="en-US" sz="700" spc="-1" strike="noStrike">
                <a:solidFill>
                  <a:srgbClr val="000000"/>
                </a:solidFill>
                <a:latin typeface="Calibri"/>
              </a:rPr>
              <a:t> a playground for criminals:</a:t>
            </a:r>
            <a:endParaRPr b="0" lang="en-US" sz="7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onymizers:</a:t>
            </a:r>
            <a:endParaRPr b="0" lang="en-US" sz="10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OR </a:t>
            </a:r>
            <a:r>
              <a:rPr b="0" lang="en-US" sz="700" spc="-1" strike="noStrike">
                <a:solidFill>
                  <a:srgbClr val="000000"/>
                </a:solidFill>
                <a:latin typeface="Calibri"/>
              </a:rPr>
              <a:t>(www.torproject.org)</a:t>
            </a:r>
            <a:endParaRPr b="0" lang="en-US" sz="7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xies </a:t>
            </a:r>
            <a:r>
              <a:rPr b="0" lang="en-US" sz="700" spc="-1" strike="noStrike">
                <a:solidFill>
                  <a:srgbClr val="000000"/>
                </a:solidFill>
                <a:latin typeface="Calibri"/>
              </a:rPr>
              <a:t>(ex. www.proxy4free.com - www.stopkinderporno.com)</a:t>
            </a:r>
            <a:endParaRPr b="0" lang="en-US" sz="700" spc="-1" strike="noStrike">
              <a:solidFill>
                <a:srgbClr val="000000"/>
              </a:solidFill>
              <a:latin typeface="Calibri"/>
            </a:endParaRPr>
          </a:p>
          <a:p>
            <a:pPr lvl="2" marL="1143000" indent="0">
              <a:lnSpc>
                <a:spcPct val="8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 The </a:t>
            </a:r>
            <a:r>
              <a:rPr b="1" lang="en-US" sz="1200" spc="-1" strike="noStrike">
                <a:solidFill>
                  <a:srgbClr val="1f497d"/>
                </a:solidFill>
                <a:latin typeface="Calibri"/>
              </a:rPr>
              <a:t>localization</a:t>
            </a:r>
            <a:r>
              <a:rPr b="0" lang="en-US" sz="1200" spc="-1" strike="noStrike">
                <a:solidFill>
                  <a:srgbClr val="000000"/>
                </a:solidFill>
                <a:latin typeface="Calibri"/>
              </a:rPr>
              <a:t> challenge</a:t>
            </a:r>
            <a:endParaRPr b="0" lang="en-US" sz="12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eganography:</a:t>
            </a:r>
            <a:br>
              <a:rPr sz="1000"/>
            </a:br>
            <a:r>
              <a:rPr b="0" lang="en-US" sz="800" spc="-1" strike="noStrike">
                <a:solidFill>
                  <a:srgbClr val="000000"/>
                </a:solidFill>
                <a:latin typeface="Calibri"/>
              </a:rPr>
              <a:t>T</a:t>
            </a:r>
            <a:r>
              <a:rPr b="0" lang="en-GB" sz="800" spc="-1" strike="noStrike">
                <a:solidFill>
                  <a:srgbClr val="000000"/>
                </a:solidFill>
                <a:latin typeface="Calibri"/>
              </a:rPr>
              <a:t>he art and science of writing hidden messages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cryption:</a:t>
            </a:r>
            <a:br>
              <a:rPr sz="1000"/>
            </a:br>
            <a:r>
              <a:rPr b="0" lang="en-US" sz="800" spc="-1" strike="noStrike">
                <a:solidFill>
                  <a:srgbClr val="000000"/>
                </a:solidFill>
                <a:latin typeface="Calibri"/>
              </a:rPr>
              <a:t>Digital evidence in a vault!</a:t>
            </a:r>
            <a:endParaRPr b="0" lang="en-US" sz="8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One of the biggest challenges is to be able to proof before court that nothing has happened with the evidence that was collected and that it is (like the axe) in the same status as when it was seized. Everybody knows what a hacker can do with your computer, what “Photoshop” can do to a digital image. The defence will try to make believe that the incriminating evidence was tempered with.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Consider for example using ‘</a:t>
            </a:r>
            <a:r>
              <a:rPr b="1" lang="en-GB" sz="1000" spc="-1" strike="noStrike">
                <a:solidFill>
                  <a:srgbClr val="1f497d"/>
                </a:solidFill>
                <a:latin typeface="Calibri"/>
              </a:rPr>
              <a:t>hashtools</a:t>
            </a:r>
            <a:r>
              <a:rPr b="0" lang="en-GB" sz="1000" spc="-1" strike="noStrike">
                <a:solidFill>
                  <a:srgbClr val="1f497d"/>
                </a:solidFill>
                <a:latin typeface="Calibri"/>
              </a:rPr>
              <a:t>’: h</a:t>
            </a:r>
            <a:r>
              <a:rPr b="0" lang="en-GB" sz="500" spc="-1" strike="noStrike">
                <a:solidFill>
                  <a:srgbClr val="000000"/>
                </a:solidFill>
                <a:latin typeface="Calibri"/>
              </a:rPr>
              <a:t>ashing is the transformation of a string of characters into a usually shorter fixed-length value or key that represents the original string. Hashing is used to index and retrieve items in a database because it is faster to find the item using the shorter hashed key than to find it using the original value. It is also used in many encryption algorithms, and to ensure the authenticity and the integrity of digital evidence. If you make sure your digital evidence was properly hashed at the moment of seizure, you can prove in a court of law with mathematical certainty that the digital evidence presented in court and analyzed by the experts is the same data that was seized; the data will have the same hash valu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Difficult to obtain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Use national law, MLA, LO, EJN, CoE contactpoints, Global Prosecutors E-crime Network (GP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We know that digital evidence in cybercrime cases of any sort is more likely to be stored somewhere outside of our own country than it would be available to seize in our own district. Data is stored in the cloud, on servers that can be located all over the worl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 good cybercrime fighter will try to collect this evidence anyway. He can use Mutual Legal Assistance treaties, he can use the help of his Liaison Officer, of the European Judicial Network, the 24/7 contact points (Council of Europe Budapest Convention  on Cybercrime), and so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It will be important to be able to explain to the judge where the evidence came from, and if collected abroad, if this was done in a right and legal way. </a:t>
            </a:r>
            <a:r>
              <a:rPr b="1" lang="en-US" sz="1000" spc="-1" strike="noStrike">
                <a:solidFill>
                  <a:srgbClr val="1f497d"/>
                </a:solidFill>
                <a:latin typeface="Calibri"/>
              </a:rPr>
              <a:t>Was the integrity of the evidence also safeguarded abroad…?</a:t>
            </a:r>
            <a:r>
              <a:rPr b="0" lang="en-US" sz="1000" spc="-1" strike="noStrike">
                <a:solidFill>
                  <a:srgbClr val="1f497d"/>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ll this will be challenged by the defen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1f497d"/>
                </a:solidFill>
                <a:uFillTx/>
                <a:latin typeface="Calibri"/>
              </a:rPr>
              <a:t>Difficult to prove the origin and the authenticity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Fully document all actions, requests and forensic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ere is a secret to a successful closure of a case, than it is the fully documentation – nothing to hide – of all that has happened during the investiga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ke sure that all the reports mention every step and </a:t>
            </a:r>
            <a:r>
              <a:rPr b="1" lang="en-US" sz="1000" spc="-1" strike="noStrike">
                <a:solidFill>
                  <a:srgbClr val="000000"/>
                </a:solidFill>
                <a:latin typeface="Calibri"/>
              </a:rPr>
              <a:t>proof the logic of investigative events</a:t>
            </a: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is is done we totally comply with the article 6 ECH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No territorial frontiers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US" sz="1000" spc="-1" strike="noStrike" u="sng">
                <a:solidFill>
                  <a:srgbClr val="000000"/>
                </a:solidFill>
                <a:uFillTx/>
                <a:latin typeface="Calibri"/>
              </a:rPr>
              <a:t>Follow the rules of cross-border coopera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y to do as much as you can yourself, but use the possibilities of the cross border cooperation. It speaks for itself that any action that is undertaken, should be fully documented aga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dmissibility of the evidence that was collected abroad is a difficult judicial issu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me countries consider that when proof was collected by an other country, they can rely upon this evidence, since no questions can be asked about how the other country organizes its investigations (based upon trust). Other countries allow the foreign proof to be challenged, and compare the way in which the proof was collected with their own rules. Be aware of that and be prepared for that. </a:t>
            </a:r>
            <a:r>
              <a:rPr b="0" lang="en-US" sz="1000" spc="-1" strike="noStrike">
                <a:solidFill>
                  <a:srgbClr val="1f497d"/>
                </a:solidFill>
                <a:latin typeface="Calibri"/>
              </a:rPr>
              <a:t>We will talk about ensuring the integrity and legality of digital evidence collected abroad later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4A16A-A3FB-4556-B29D-498D545B4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23A85-8FDB-4EB3-A7A0-A7C1A6E26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7B914-A017-40BE-92E3-86CD120EE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67F26-FA38-451B-A273-0E2A484DE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EC7CD-4671-492F-88AC-F98CB5D4F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40D26-964B-40FD-BB47-F2BBD78BA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6642D-62C9-426F-B903-3AE5711F8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6D501-6F48-415E-A980-BBDA612D8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3F430-C4C9-40BB-AACF-3F64E5767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3654A-0B9E-457E-BD3D-0E1CE40F0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791DD-FBFE-451F-ACEF-C53112C69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CA9A-7743-4EE2-83C1-4FCAE0488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3D76-EA43-4A81-9F61-EA924053A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A7283-A32F-4605-8624-311F12C01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8F4B7-CFAE-4193-AC0E-89D92ED3B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C644E-FC8B-47E8-9EFE-38F4E92D0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FE975-579E-46C0-95DB-522CE3871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4959A-421A-431B-89CD-0A547FFEE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37F97-A063-4C0E-BFA6-DC9696548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12853-6137-439F-B2F8-360BB7EC7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F8473-B373-4CE2-9F5F-82275F424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50C0B-1756-4AEC-A68C-534595F38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6C820-2C6F-4B88-86D3-0DA47A9E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99AC2-7146-47FA-B17E-0F8DFFABB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2E809-D6B0-4871-B26B-96FFBC77B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A08C0-6790-4455-9D8C-187C28AF00B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7BE50-F419-48AB-A554-E786E90025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57970-D7AD-400F-A97D-8D7BFFEE524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04FB0-1AA8-489D-9483-FE9803A8F4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898989"/>
                </a:solidFill>
                <a:latin typeface="Calibri"/>
              </a:rPr>
              <a:t>Презентација за подготвување предмет за на суд со методи за изведување докази</a:t>
            </a:r>
            <a:endParaRPr b="0" lang="en-US" sz="3200" spc="-1" strike="noStrike">
              <a:solidFill>
                <a:srgbClr val="000000"/>
              </a:solidFill>
              <a:latin typeface="Calibri"/>
            </a:endParaRPr>
          </a:p>
        </p:txBody>
      </p:sp>
      <p:pic>
        <p:nvPicPr>
          <p:cNvPr id="90"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Group 2"/>
          <p:cNvGrpSpPr/>
          <p:nvPr/>
        </p:nvGrpSpPr>
        <p:grpSpPr>
          <a:xfrm>
            <a:off x="2828880" y="457200"/>
            <a:ext cx="3673440" cy="5977080"/>
            <a:chOff x="2828880" y="457200"/>
            <a:chExt cx="3673440" cy="5977080"/>
          </a:xfrm>
        </p:grpSpPr>
        <p:sp>
          <p:nvSpPr>
            <p:cNvPr id="2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6" name="TextBox 48"/>
          <p:cNvSpPr/>
          <p:nvPr/>
        </p:nvSpPr>
        <p:spPr>
          <a:xfrm>
            <a:off x="3144960" y="265428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на суд</a:t>
            </a:r>
            <a:endParaRPr b="0" lang="en-US" sz="3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a:t>
            </a:r>
            <a:br>
              <a:rPr sz="4000"/>
            </a:br>
            <a:r>
              <a:rPr b="1" lang="mk-MK" sz="4000" spc="-1" strike="noStrike">
                <a:solidFill>
                  <a:srgbClr val="122031"/>
                </a:solidFill>
                <a:latin typeface="Calibri"/>
              </a:rPr>
              <a:t>на дигиталните докази на суд</a:t>
            </a:r>
            <a:endParaRPr b="0" lang="en-US" sz="4000" spc="-1" strike="noStrike">
              <a:solidFill>
                <a:srgbClr val="000000"/>
              </a:solidFill>
              <a:latin typeface="Calibri"/>
            </a:endParaRPr>
          </a:p>
        </p:txBody>
      </p:sp>
      <p:sp>
        <p:nvSpPr>
          <p:cNvPr id="288" name=""/>
          <p:cNvSpPr txBox="1"/>
          <p:nvPr/>
        </p:nvSpPr>
        <p:spPr>
          <a:xfrm>
            <a:off x="457200" y="1292040"/>
            <a:ext cx="8229600" cy="4833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Судиите (с</a:t>
            </a:r>
            <a:r>
              <a:rPr b="1" lang="en-GB" sz="2400" spc="-1" strike="noStrike">
                <a:solidFill>
                  <a:srgbClr val="1f497d"/>
                </a:solidFill>
                <a:latin typeface="Calibri"/>
              </a:rPr>
              <a:t>è</a:t>
            </a:r>
            <a:r>
              <a:rPr b="0" lang="en-GB" sz="2400" spc="-1" strike="noStrike">
                <a:solidFill>
                  <a:srgbClr val="1f497d"/>
                </a:solidFill>
                <a:latin typeface="Calibri"/>
              </a:rPr>
              <a:t> </a:t>
            </a:r>
            <a:r>
              <a:rPr b="1" lang="mk-MK" sz="2400" spc="-1" strike="noStrike">
                <a:solidFill>
                  <a:srgbClr val="1f497d"/>
                </a:solidFill>
                <a:latin typeface="Calibri"/>
              </a:rPr>
              <a:t> уште) не се навикнати на нив</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Несигурната природа на дигиталните докази треба да се преобрази во </a:t>
            </a:r>
            <a:r>
              <a:rPr b="1" lang="mk-MK" sz="2400" spc="-1" strike="noStrike">
                <a:solidFill>
                  <a:srgbClr val="1f497d"/>
                </a:solidFill>
                <a:latin typeface="Calibri"/>
              </a:rPr>
              <a:t>нови карактеристик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Задолжителен е</a:t>
            </a:r>
            <a:r>
              <a:rPr b="1" lang="mk-MK" sz="2400" spc="-1" strike="noStrike">
                <a:solidFill>
                  <a:srgbClr val="1f497d"/>
                </a:solidFill>
                <a:latin typeface="Calibri"/>
              </a:rPr>
              <a:t> највисок 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Достап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втентич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Прецизни (и целосн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игиталните докази треба да се</a:t>
            </a:r>
            <a:r>
              <a:rPr b="1" lang="fr-BE" sz="2400" spc="-1" strike="noStrike">
                <a:solidFill>
                  <a:srgbClr val="000000"/>
                </a:solidFill>
                <a:latin typeface="Calibri"/>
              </a:rPr>
              <a:t> </a:t>
            </a:r>
            <a:r>
              <a:rPr b="1" lang="mk-MK" sz="2400" spc="-1" strike="noStrike">
                <a:solidFill>
                  <a:srgbClr val="1f497d"/>
                </a:solidFill>
                <a:latin typeface="Calibri"/>
              </a:rPr>
              <a:t>убедливи</a:t>
            </a:r>
            <a:endParaRPr b="0" lang="en-US" sz="2400" spc="-1" strike="noStrike">
              <a:solidFill>
                <a:srgbClr val="000000"/>
              </a:solidFill>
              <a:latin typeface="Calibri"/>
            </a:endParaRPr>
          </a:p>
        </p:txBody>
      </p:sp>
      <p:sp>
        <p:nvSpPr>
          <p:cNvPr id="289" name=""/>
          <p:cNvSpPr/>
          <p:nvPr/>
        </p:nvSpPr>
        <p:spPr>
          <a:xfrm>
            <a:off x="192240" y="3660840"/>
            <a:ext cx="660240" cy="1001520"/>
          </a:xfrm>
          <a:custGeom>
            <a:avLst/>
            <a:gdLst>
              <a:gd name="textAreaLeft" fmla="*/ 88200 w 660240"/>
              <a:gd name="textAreaRight" fmla="*/ 572040 w 660240"/>
              <a:gd name="textAreaTop" fmla="*/ 175320 h 1001520"/>
              <a:gd name="textAreaBottom" fmla="*/ 726120 h 1001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6006200">
            <a:off x="3296880" y="370692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Утврдување на автентичноста</a:t>
            </a:r>
            <a:br>
              <a:rPr sz="3600"/>
            </a:br>
            <a:r>
              <a:rPr b="1" lang="mk-MK" sz="3600" spc="-1" strike="noStrike">
                <a:solidFill>
                  <a:srgbClr val="122031"/>
                </a:solidFill>
                <a:latin typeface="Calibri"/>
              </a:rPr>
              <a:t>на дигиталните податоци</a:t>
            </a:r>
            <a:endParaRPr b="0" lang="en-US" sz="3600" spc="-1" strike="noStrike">
              <a:solidFill>
                <a:srgbClr val="000000"/>
              </a:solidFill>
              <a:latin typeface="Calibri"/>
            </a:endParaRPr>
          </a:p>
        </p:txBody>
      </p:sp>
      <p:sp>
        <p:nvSpPr>
          <p:cNvPr id="292" name=""/>
          <p:cNvSpPr txBox="1"/>
          <p:nvPr/>
        </p:nvSpPr>
        <p:spPr>
          <a:xfrm>
            <a:off x="457200" y="1039320"/>
            <a:ext cx="8229600" cy="508644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Категорирзирање и структурирање на дигиталните докази (во три групи):</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за активности со содржина пишувана од повеќе од едно лице </a:t>
            </a:r>
            <a:r>
              <a:rPr b="0" lang="fr-BE" sz="1800" spc="-1" strike="noStrike">
                <a:solidFill>
                  <a:srgbClr val="000000"/>
                </a:solidFill>
                <a:latin typeface="Calibri"/>
              </a:rPr>
              <a:t>(</a:t>
            </a:r>
            <a:r>
              <a:rPr b="0" lang="mk-MK" sz="1800" spc="-1" strike="noStrike">
                <a:solidFill>
                  <a:srgbClr val="000000"/>
                </a:solidFill>
                <a:latin typeface="Calibri"/>
              </a:rPr>
              <a:t>на пр. </a:t>
            </a:r>
            <a:r>
              <a:rPr b="0" lang="mk-MK" sz="1800" spc="-1" strike="noStrike">
                <a:solidFill>
                  <a:srgbClr val="fc2610"/>
                </a:solidFill>
                <a:latin typeface="Calibri"/>
              </a:rPr>
              <a:t>е-пошта</a:t>
            </a:r>
            <a:r>
              <a:rPr b="0" lang="fr-BE" sz="1800" spc="-1" strike="noStrike">
                <a:solidFill>
                  <a:srgbClr val="000000"/>
                </a:solidFill>
                <a:latin typeface="Calibri"/>
              </a:rPr>
              <a:t>, </a:t>
            </a:r>
            <a:r>
              <a:rPr b="0" lang="mk-MK" sz="1800" spc="-1" strike="noStrike">
                <a:solidFill>
                  <a:srgbClr val="000000"/>
                </a:solidFill>
                <a:latin typeface="Calibri"/>
              </a:rPr>
              <a:t>пишани документи</a:t>
            </a:r>
            <a:r>
              <a:rPr b="0" lang="fr-BE" sz="1800" spc="-1" strike="noStrike">
                <a:solidFill>
                  <a:srgbClr val="000000"/>
                </a:solidFill>
                <a:latin typeface="Calibri"/>
              </a:rPr>
              <a:t>, </a:t>
            </a:r>
            <a:r>
              <a:rPr b="0" lang="mk-MK" sz="1800" spc="-1" strike="noStrike">
                <a:solidFill>
                  <a:srgbClr val="000000"/>
                </a:solidFill>
                <a:latin typeface="Calibri"/>
              </a:rPr>
              <a:t>пора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произведени од компјутер што не ги направил човек </a:t>
            </a:r>
            <a:r>
              <a:rPr b="0" lang="fr-BE" sz="1800" spc="-1" strike="noStrike">
                <a:solidFill>
                  <a:srgbClr val="000000"/>
                </a:solidFill>
                <a:latin typeface="Calibri"/>
              </a:rPr>
              <a:t>(</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Податочни дневници</a:t>
            </a:r>
            <a:r>
              <a:rPr b="0" lang="fr-BE" sz="1800" spc="-1" strike="noStrike">
                <a:solidFill>
                  <a:srgbClr val="000000"/>
                </a:solidFill>
                <a:latin typeface="Calibri"/>
              </a:rPr>
              <a:t>, </a:t>
            </a:r>
            <a:r>
              <a:rPr b="0" lang="mk-MK" sz="1800" spc="-1" strike="noStrike">
                <a:solidFill>
                  <a:srgbClr val="fc2610"/>
                </a:solidFill>
                <a:latin typeface="Calibri"/>
              </a:rPr>
              <a:t>трансакции на банкомат</a:t>
            </a:r>
            <a:r>
              <a:rPr b="0" lang="fr-BE" sz="1800" spc="-1" strike="noStrike">
                <a:solidFill>
                  <a:srgbClr val="000000"/>
                </a:solidFill>
                <a:latin typeface="Calibri"/>
              </a:rPr>
              <a:t>, </a:t>
            </a:r>
            <a:r>
              <a:rPr b="0" lang="mk-MK" sz="1800" spc="-1" strike="noStrike">
                <a:solidFill>
                  <a:srgbClr val="000000"/>
                </a:solidFill>
                <a:latin typeface="Calibri"/>
              </a:rPr>
              <a:t>телефонски врс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што се мешавина од човечко дејство и пресметки произведени и зачувани од компјутер</a:t>
            </a:r>
            <a:r>
              <a:rPr b="0" lang="fr-BE" sz="1800" spc="-1" strike="noStrike">
                <a:solidFill>
                  <a:srgbClr val="000000"/>
                </a:solidFill>
                <a:latin typeface="Calibri"/>
              </a:rPr>
              <a:t> (</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финансиска табела</a:t>
            </a:r>
            <a:r>
              <a:rPr b="0" lang="fr-BE"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Природата на доказите достапни на судот да ја утврди автентичнота на дигиталните податоци ќе варира од предмет до предмет</a:t>
            </a:r>
            <a:r>
              <a:rPr b="1" lang="fr-BE" sz="1800" spc="-1" strike="noStrike">
                <a:solidFill>
                  <a:srgbClr val="1f497d"/>
                </a:solidFill>
                <a:latin typeface="Calibri"/>
              </a:rPr>
              <a:t> </a:t>
            </a:r>
            <a:r>
              <a:rPr b="0" lang="fr-BE" sz="1800" spc="-1" strike="noStrike">
                <a:solidFill>
                  <a:srgbClr val="000000"/>
                </a:solidFill>
                <a:latin typeface="Calibri"/>
              </a:rPr>
              <a:t>(</a:t>
            </a:r>
            <a:r>
              <a:rPr b="0" lang="fr-BE" sz="1800" spc="-1" strike="noStrike">
                <a:solidFill>
                  <a:srgbClr val="000000"/>
                </a:solidFill>
                <a:latin typeface="Wingdings"/>
                <a:ea typeface="Wingdings"/>
              </a:rPr>
              <a:t></a:t>
            </a:r>
            <a:r>
              <a:rPr b="0" lang="fr-BE" sz="1800" spc="-1" strike="noStrike">
                <a:solidFill>
                  <a:srgbClr val="000000"/>
                </a:solidFill>
                <a:latin typeface="Calibri"/>
              </a:rPr>
              <a:t> </a:t>
            </a:r>
            <a:r>
              <a:rPr b="0" lang="mk-MK" sz="1800" spc="-1" strike="noStrike">
                <a:solidFill>
                  <a:srgbClr val="000000"/>
                </a:solidFill>
                <a:latin typeface="Calibri"/>
              </a:rPr>
              <a:t>важна улога на</a:t>
            </a:r>
            <a:r>
              <a:rPr b="0" lang="fr-BE" sz="1800" spc="-1" strike="noStrike">
                <a:solidFill>
                  <a:srgbClr val="000000"/>
                </a:solidFill>
                <a:latin typeface="Calibri"/>
              </a:rPr>
              <a:t> </a:t>
            </a:r>
            <a:r>
              <a:rPr b="0" lang="mk-MK" sz="1800" spc="-1" strike="noStrike">
                <a:solidFill>
                  <a:srgbClr val="fc2610"/>
                </a:solidFill>
                <a:latin typeface="Calibri"/>
              </a:rPr>
              <a:t>специјалистите/стручњаците за дигитални докази</a:t>
            </a:r>
            <a:r>
              <a:rPr b="0" lang="fr-BE" sz="1800" spc="-1" strike="noStrike">
                <a:solidFill>
                  <a:srgbClr val="000000"/>
                </a:solidFill>
                <a:latin typeface="Calibri"/>
              </a:rPr>
              <a:t>)</a:t>
            </a:r>
            <a:endParaRPr b="0" lang="en-US" sz="18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Докажување автентичност</a:t>
            </a:r>
            <a:endParaRPr b="0" lang="en-US" sz="4000" spc="-1" strike="noStrike">
              <a:solidFill>
                <a:srgbClr val="000000"/>
              </a:solidFill>
              <a:latin typeface="Calibri"/>
            </a:endParaRPr>
          </a:p>
        </p:txBody>
      </p:sp>
      <p:sp>
        <p:nvSpPr>
          <p:cNvPr id="294" name=""/>
          <p:cNvSpPr txBox="1"/>
          <p:nvPr/>
        </p:nvSpPr>
        <p:spPr>
          <a:xfrm>
            <a:off x="457200" y="1292040"/>
            <a:ext cx="8686800" cy="483372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станува на страната што бара </a:t>
            </a:r>
            <a:r>
              <a:rPr b="1" lang="mk-MK" sz="2800" spc="-1" strike="noStrike">
                <a:solidFill>
                  <a:srgbClr val="1f497d"/>
                </a:solidFill>
                <a:latin typeface="Calibri"/>
              </a:rPr>
              <a:t>допуштање</a:t>
            </a:r>
            <a:r>
              <a:rPr b="1" lang="mk-MK" sz="2800" spc="-1" strike="noStrike">
                <a:solidFill>
                  <a:srgbClr val="000000"/>
                </a:solidFill>
                <a:latin typeface="Calibri"/>
              </a:rPr>
              <a:t> докази да ги подготви и изведе доказите  за </a:t>
            </a:r>
            <a:r>
              <a:rPr b="1" lang="mk-MK" sz="2800" spc="-1" strike="noStrike">
                <a:solidFill>
                  <a:srgbClr val="1f497d"/>
                </a:solidFill>
                <a:latin typeface="Calibri"/>
              </a:rPr>
              <a:t>автентичноста </a:t>
            </a:r>
            <a:r>
              <a:rPr b="1" lang="mk-MK" sz="2800" spc="-1" strike="noStrike">
                <a:solidFill>
                  <a:srgbClr val="000000"/>
                </a:solidFill>
                <a:latin typeface="Calibri"/>
              </a:rPr>
              <a:t>на податоците</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кажете ја историјата на </a:t>
            </a:r>
            <a:r>
              <a:rPr b="1" lang="mk-MK" sz="2800" spc="-1" strike="noStrike">
                <a:solidFill>
                  <a:srgbClr val="1f497d"/>
                </a:solidFill>
                <a:latin typeface="Calibri"/>
              </a:rPr>
              <a:t>управување со податоците</a:t>
            </a:r>
            <a:r>
              <a:rPr b="1" lang="en-US" sz="2800" spc="-1" strike="noStrike">
                <a:solidFill>
                  <a:srgbClr val="000000"/>
                </a:solidFill>
                <a:latin typeface="Calibri"/>
              </a:rPr>
              <a:t>, </a:t>
            </a:r>
            <a:r>
              <a:rPr b="1" lang="mk-MK" sz="2800" spc="-1" strike="noStrike">
                <a:solidFill>
                  <a:srgbClr val="000000"/>
                </a:solidFill>
                <a:latin typeface="Calibri"/>
              </a:rPr>
              <a:t>што вклучува</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податоците се предмет на </a:t>
            </a:r>
            <a:r>
              <a:rPr b="1" lang="mk-MK" sz="2400" spc="-1" strike="noStrike">
                <a:solidFill>
                  <a:srgbClr val="1f497d"/>
                </a:solidFill>
                <a:latin typeface="Calibri"/>
              </a:rPr>
              <a:t>синџир на одговорност</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a:t>
            </a:r>
            <a:r>
              <a:rPr b="1" lang="mk-MK" sz="2400" spc="-1" strike="noStrike">
                <a:solidFill>
                  <a:srgbClr val="1f497d"/>
                </a:solidFill>
                <a:latin typeface="Calibri"/>
              </a:rPr>
              <a:t>податоците не се менувани</a:t>
            </a:r>
            <a:r>
              <a:rPr b="0" lang="fr-BE" sz="2400" spc="-1" strike="noStrike">
                <a:solidFill>
                  <a:srgbClr val="000000"/>
                </a:solidFill>
                <a:latin typeface="Calibri"/>
              </a:rPr>
              <a:t> </a:t>
            </a:r>
            <a:r>
              <a:rPr b="0" lang="mk-MK" sz="2400" spc="-1" strike="noStrike">
                <a:solidFill>
                  <a:srgbClr val="000000"/>
                </a:solidFill>
                <a:latin typeface="Calibri"/>
              </a:rPr>
              <a:t>без овластување од времето на создавање или додавање во местото за чување до моментот кога биле побарани, што значи:</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го</a:t>
            </a:r>
            <a:r>
              <a:rPr b="0" lang="fr-BE" sz="2400" spc="-1" strike="noStrike">
                <a:solidFill>
                  <a:srgbClr val="000000"/>
                </a:solidFill>
                <a:latin typeface="Calibri"/>
              </a:rPr>
              <a:t> </a:t>
            </a:r>
            <a:r>
              <a:rPr b="1" lang="mk-MK" sz="2400" spc="-1" strike="noStrike">
                <a:solidFill>
                  <a:srgbClr val="1f497d"/>
                </a:solidFill>
                <a:latin typeface="Calibri"/>
              </a:rPr>
              <a:t>интегритетот</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ја</a:t>
            </a:r>
            <a:r>
              <a:rPr b="0" lang="fr-BE" sz="2400" spc="-1" strike="noStrike">
                <a:solidFill>
                  <a:srgbClr val="000000"/>
                </a:solidFill>
                <a:latin typeface="Calibri"/>
              </a:rPr>
              <a:t> </a:t>
            </a:r>
            <a:r>
              <a:rPr b="1" lang="mk-MK" sz="2400" spc="-1" strike="noStrike">
                <a:solidFill>
                  <a:srgbClr val="1f497d"/>
                </a:solidFill>
                <a:latin typeface="Calibri"/>
              </a:rPr>
              <a:t>сигурноста</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122031"/>
                </a:solidFill>
                <a:latin typeface="Calibri"/>
              </a:rPr>
              <a:t>Справување со јурисдикција</a:t>
            </a:r>
            <a:br>
              <a:rPr sz="3800"/>
            </a:br>
            <a:r>
              <a:rPr b="1" lang="mk-MK" sz="3800" spc="-1" strike="noStrike">
                <a:solidFill>
                  <a:srgbClr val="122031"/>
                </a:solidFill>
                <a:latin typeface="Calibri"/>
              </a:rPr>
              <a:t>и докази од странство</a:t>
            </a:r>
            <a:endParaRPr b="0" lang="en-US" sz="3800" spc="-1" strike="noStrike">
              <a:solidFill>
                <a:srgbClr val="000000"/>
              </a:solidFill>
              <a:latin typeface="Calibri"/>
            </a:endParaRPr>
          </a:p>
        </p:txBody>
      </p:sp>
      <p:sp>
        <p:nvSpPr>
          <p:cNvPr id="296" name=""/>
          <p:cNvSpPr txBox="1"/>
          <p:nvPr/>
        </p:nvSpPr>
        <p:spPr>
          <a:xfrm>
            <a:off x="456840" y="1146240"/>
            <a:ext cx="8550360" cy="5702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Обезбедете ги интегритетот, допустливоста и законитоста на доказите од странство (кои правила важат?)</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1f497d"/>
                </a:solidFill>
                <a:latin typeface="Calibri"/>
              </a:rPr>
              <a:t>Да можете да му ја објасните јурисдикцијата на судијата</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Бидете свесни за националноста на доказит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Што е територијалност и екс-територијалност во виртуелниот простор?</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де биле собрани доказите и дали знаем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Собирање докази од странство преку барање за заемна правна помош кога е тоа потребно</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2"/>
          <p:cNvGrpSpPr/>
          <p:nvPr/>
        </p:nvGrpSpPr>
        <p:grpSpPr>
          <a:xfrm>
            <a:off x="2828880" y="457200"/>
            <a:ext cx="3673440" cy="5977080"/>
            <a:chOff x="2828880" y="457200"/>
            <a:chExt cx="3673440" cy="5977080"/>
          </a:xfrm>
        </p:grpSpPr>
        <p:sp>
          <p:nvSpPr>
            <p:cNvPr id="29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2"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зведување дигитални докази</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Општи прашања</a:t>
            </a:r>
            <a:endParaRPr b="0" lang="en-US" sz="4400" spc="-1" strike="noStrike">
              <a:solidFill>
                <a:srgbClr val="000000"/>
              </a:solidFill>
              <a:latin typeface="Calibri"/>
            </a:endParaRPr>
          </a:p>
        </p:txBody>
      </p:sp>
      <p:sp>
        <p:nvSpPr>
          <p:cNvPr id="344" name=""/>
          <p:cNvSpPr txBox="1"/>
          <p:nvPr/>
        </p:nvSpPr>
        <p:spPr>
          <a:xfrm>
            <a:off x="457200" y="1145880"/>
            <a:ext cx="8686800" cy="49798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браната ќе ги оспорува доказите:</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 </a:t>
            </a:r>
            <a:r>
              <a:rPr b="1" lang="mk-MK" sz="2000" spc="-1" strike="noStrike">
                <a:solidFill>
                  <a:srgbClr val="1f497d"/>
                </a:solidFill>
                <a:latin typeface="Calibri"/>
              </a:rPr>
              <a:t>алтернативно објаснување</a:t>
            </a:r>
            <a:r>
              <a:rPr b="0" lang="fr-BE" sz="2000" spc="-1" strike="noStrike">
                <a:solidFill>
                  <a:srgbClr val="000000"/>
                </a:solidFill>
                <a:latin typeface="Calibri"/>
              </a:rPr>
              <a:t> </a:t>
            </a:r>
            <a:r>
              <a:rPr b="0" lang="mk-MK" sz="2000" spc="-1" strike="noStrike">
                <a:solidFill>
                  <a:srgbClr val="000000"/>
                </a:solidFill>
                <a:latin typeface="Calibri"/>
              </a:rPr>
              <a:t>на доказите</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a:t>
            </a:r>
            <a:r>
              <a:rPr b="0" lang="fr-BE" sz="2000" spc="-1" strike="noStrike">
                <a:solidFill>
                  <a:srgbClr val="000000"/>
                </a:solidFill>
                <a:latin typeface="Calibri"/>
              </a:rPr>
              <a:t> </a:t>
            </a:r>
            <a:r>
              <a:rPr b="1" lang="mk-MK" sz="2000" spc="-1" strike="noStrike">
                <a:solidFill>
                  <a:srgbClr val="1f497d"/>
                </a:solidFill>
                <a:latin typeface="Calibri"/>
              </a:rPr>
              <a:t>техничките прашања</a:t>
            </a:r>
            <a:r>
              <a:rPr b="0" lang="fr-BE" sz="2000" spc="-1" strike="noStrike">
                <a:solidFill>
                  <a:srgbClr val="000000"/>
                </a:solidFill>
                <a:latin typeface="Calibri"/>
              </a:rPr>
              <a:t> </a:t>
            </a:r>
            <a:r>
              <a:rPr b="0" lang="mk-MK" sz="2000" spc="-1" strike="noStrike">
                <a:solidFill>
                  <a:srgbClr val="000000"/>
                </a:solidFill>
                <a:latin typeface="Calibri"/>
              </a:rPr>
              <a:t>што би ги покренала одбраната</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Веродостојност на </a:t>
            </a:r>
            <a:r>
              <a:rPr b="0" lang="en-US" sz="1800" spc="-1" strike="noStrike">
                <a:solidFill>
                  <a:srgbClr val="000000"/>
                </a:solidFill>
                <a:latin typeface="Calibri"/>
              </a:rPr>
              <a:t>IP</a:t>
            </a:r>
            <a:r>
              <a:rPr b="0" lang="mk-MK" sz="1800" spc="-1" strike="noStrike">
                <a:solidFill>
                  <a:srgbClr val="000000"/>
                </a:solidFill>
                <a:latin typeface="Calibri"/>
              </a:rPr>
              <a:t>-идентификацијата (</a:t>
            </a:r>
            <a:r>
              <a:rPr b="0" lang="fr-BE" sz="1800" spc="-1" strike="noStrike">
                <a:solidFill>
                  <a:srgbClr val="000000"/>
                </a:solidFill>
                <a:latin typeface="Calibri"/>
              </a:rPr>
              <a:t>IPv4-IPv6, CGN…)</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Теорија на заговор, незаштитени безжични мрежи...</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Ако не може да се оспорат самите докази, ќе се оспорат лицето што ги собрало и начинот на кои се собран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ен полицаец</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њак за дигитална форензика</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Член</a:t>
            </a:r>
            <a:r>
              <a:rPr b="1" lang="en-GB" sz="2400" spc="-1" strike="noStrike">
                <a:solidFill>
                  <a:srgbClr val="1f497d"/>
                </a:solidFill>
                <a:latin typeface="Calibri"/>
              </a:rPr>
              <a:t> 6 </a:t>
            </a:r>
            <a:r>
              <a:rPr b="1" lang="mk-MK" sz="2400" spc="-1" strike="noStrike">
                <a:solidFill>
                  <a:srgbClr val="1f497d"/>
                </a:solidFill>
                <a:latin typeface="Calibri"/>
              </a:rPr>
              <a:t>ЕКЧП</a:t>
            </a:r>
            <a:r>
              <a:rPr b="1" lang="en-GB" sz="2400" spc="-1" strike="noStrike">
                <a:solidFill>
                  <a:srgbClr val="000000"/>
                </a:solidFill>
                <a:latin typeface="Calibri"/>
              </a:rPr>
              <a:t> – </a:t>
            </a:r>
            <a:r>
              <a:rPr b="1" lang="mk-MK" sz="2400" spc="-1" strike="noStrike">
                <a:solidFill>
                  <a:srgbClr val="000000"/>
                </a:solidFill>
                <a:latin typeface="Calibri"/>
              </a:rPr>
              <a:t>Право на праведно судење</a:t>
            </a:r>
            <a:r>
              <a:rPr b="1" lang="en-GB" sz="2400" spc="-1" strike="noStrike">
                <a:solidFill>
                  <a:srgbClr val="000000"/>
                </a:solidFill>
                <a:latin typeface="Calibri"/>
              </a:rPr>
              <a:t> </a:t>
            </a:r>
            <a:endParaRPr b="0" lang="en-US" sz="2400" spc="-1" strike="noStrike">
              <a:solidFill>
                <a:srgbClr val="000000"/>
              </a:solidFill>
              <a:latin typeface="Calibri"/>
            </a:endParaRPr>
          </a:p>
        </p:txBody>
      </p:sp>
      <p:sp>
        <p:nvSpPr>
          <p:cNvPr id="345"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Пристап</a:t>
            </a:r>
            <a:endParaRPr b="0" lang="en-US" sz="4400" spc="-1" strike="noStrike">
              <a:solidFill>
                <a:srgbClr val="000000"/>
              </a:solidFill>
              <a:latin typeface="Calibri"/>
            </a:endParaRPr>
          </a:p>
        </p:txBody>
      </p:sp>
      <p:sp>
        <p:nvSpPr>
          <p:cNvPr id="347" name=""/>
          <p:cNvSpPr txBox="1"/>
          <p:nvPr/>
        </p:nvSpPr>
        <p:spPr>
          <a:xfrm>
            <a:off x="457200" y="1146240"/>
            <a:ext cx="822960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Имајте го предвид нивото на специјализација:</a:t>
            </a:r>
            <a:endParaRPr b="0" lang="en-US" sz="24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лициски лица </a:t>
            </a:r>
            <a:r>
              <a:rPr b="1" lang="en-GB" sz="2000" spc="-1" strike="noStrike">
                <a:solidFill>
                  <a:srgbClr val="000000"/>
                </a:solidFill>
                <a:latin typeface="Calibri"/>
              </a:rPr>
              <a:t>(</a:t>
            </a:r>
            <a:r>
              <a:rPr b="1" lang="mk-MK" sz="2000" spc="-1" strike="noStrike">
                <a:solidFill>
                  <a:srgbClr val="000000"/>
                </a:solidFill>
                <a:latin typeface="Calibri"/>
              </a:rPr>
              <a:t>може да ги повикате како вешти сведоци)</a:t>
            </a:r>
            <a:endParaRPr b="0" lang="en-US" sz="20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Јавни обвинители</a:t>
            </a:r>
            <a:endParaRPr b="0" lang="en-US" sz="20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удии</a:t>
            </a:r>
            <a:r>
              <a:rPr b="1" lang="en-GB" sz="2000" spc="-1" strike="noStrike">
                <a:solidFill>
                  <a:srgbClr val="000000"/>
                </a:solidFill>
                <a:latin typeface="Calibri"/>
              </a:rPr>
              <a:t> (</a:t>
            </a:r>
            <a:r>
              <a:rPr b="1" lang="mk-MK" sz="2000" spc="-1" strike="noStrike">
                <a:solidFill>
                  <a:srgbClr val="000000"/>
                </a:solidFill>
                <a:latin typeface="Calibri"/>
              </a:rPr>
              <a:t>последни, но не и помалку важни</a:t>
            </a:r>
            <a:r>
              <a:rPr b="1" lang="en-GB" sz="2000" spc="-1" strike="noStrike">
                <a:solidFill>
                  <a:srgbClr val="000000"/>
                </a:solidFill>
                <a:latin typeface="Calibri"/>
              </a:rPr>
              <a:t>)</a:t>
            </a:r>
            <a:endParaRPr b="0" lang="en-US" sz="20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Одете постапно: прво интернет за лаици, па интернет за стручњаци</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окументирајте го секој чекор и покажете ја логиката на настаните</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Не провоцирајте расправии – не збунувајте го судијата</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Поставете темпо</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и сведоци</a:t>
            </a:r>
            <a:endParaRPr b="0" lang="en-US" sz="4400" spc="-1" strike="noStrike">
              <a:solidFill>
                <a:srgbClr val="000000"/>
              </a:solidFill>
              <a:latin typeface="Calibri"/>
            </a:endParaRPr>
          </a:p>
        </p:txBody>
      </p:sp>
      <p:sp>
        <p:nvSpPr>
          <p:cNvPr id="349" name=""/>
          <p:cNvSpPr txBox="1"/>
          <p:nvPr/>
        </p:nvSpPr>
        <p:spPr>
          <a:xfrm>
            <a:off x="456840" y="1146240"/>
            <a:ext cx="81342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Специјализирани полицајци </a:t>
            </a:r>
            <a:r>
              <a:rPr b="0" lang="fr-BE" sz="2200" spc="-1" strike="noStrike">
                <a:solidFill>
                  <a:srgbClr val="000000"/>
                </a:solidFill>
                <a:latin typeface="Calibri"/>
              </a:rPr>
              <a:t>(</a:t>
            </a:r>
            <a:r>
              <a:rPr b="0" lang="mk-MK" sz="2200" spc="-1" strike="noStrike">
                <a:solidFill>
                  <a:srgbClr val="000000"/>
                </a:solidFill>
                <a:latin typeface="Calibri"/>
              </a:rPr>
              <a:t>Оддели за компјутерски криминал</a:t>
            </a:r>
            <a:r>
              <a:rPr b="0" lang="fr-BE"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1f497d"/>
                </a:solidFill>
                <a:latin typeface="Calibri"/>
              </a:rPr>
              <a:t>Сведоци специјалисти за дигитална форензика</a:t>
            </a:r>
            <a:r>
              <a:rPr b="1" lang="fr-BE" sz="2200" spc="-1" strike="noStrike">
                <a:solidFill>
                  <a:srgbClr val="1f497d"/>
                </a:solidFill>
                <a:latin typeface="Calibri"/>
              </a:rPr>
              <a:t> </a:t>
            </a:r>
            <a:r>
              <a:rPr b="1" lang="mk-MK" sz="2200" spc="-1" strike="noStrike">
                <a:solidFill>
                  <a:srgbClr val="000000"/>
                </a:solidFill>
                <a:latin typeface="Calibri"/>
              </a:rPr>
              <a:t>назначени од обвинителот или судијата што ќе понудат:</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вештач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искуство</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Истраж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нтекстуал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ав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муникациски вештини</a:t>
            </a:r>
            <a:endParaRPr b="0" lang="en-US" sz="22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 сведок</a:t>
            </a:r>
            <a:endParaRPr b="0" lang="en-US" sz="4400" spc="-1" strike="noStrike">
              <a:solidFill>
                <a:srgbClr val="000000"/>
              </a:solidFill>
              <a:latin typeface="Calibri"/>
            </a:endParaRPr>
          </a:p>
        </p:txBody>
      </p:sp>
      <p:sp>
        <p:nvSpPr>
          <p:cNvPr id="351" name=""/>
          <p:cNvSpPr txBox="1"/>
          <p:nvPr/>
        </p:nvSpPr>
        <p:spPr>
          <a:xfrm>
            <a:off x="456840" y="1419120"/>
            <a:ext cx="8134200" cy="4965840"/>
          </a:xfrm>
          <a:prstGeom prst="rect">
            <a:avLst/>
          </a:prstGeom>
          <a:noFill/>
          <a:ln w="0">
            <a:noFill/>
          </a:ln>
        </p:spPr>
        <p:txBody>
          <a:bodyPr anchor="t">
            <a:normAutofit/>
          </a:bodyPr>
          <a:p>
            <a:pPr marL="343080" indent="-343080">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Доказите</a:t>
            </a:r>
            <a:r>
              <a:rPr b="1" lang="en-GB" sz="2800" spc="-1" strike="noStrike">
                <a:solidFill>
                  <a:srgbClr val="000000"/>
                </a:solidFill>
                <a:latin typeface="Calibri"/>
              </a:rPr>
              <a:t> </a:t>
            </a:r>
            <a:r>
              <a:rPr b="1" lang="mk-MK" sz="2800" spc="-1" strike="noStrike">
                <a:solidFill>
                  <a:srgbClr val="000000"/>
                </a:solidFill>
                <a:latin typeface="Calibri"/>
              </a:rPr>
              <a:t>што ги дава форензичкиот сведок треба да ги имаат следните </a:t>
            </a:r>
            <a:r>
              <a:rPr b="1" lang="mk-MK" sz="2800" spc="-1" strike="noStrike">
                <a:solidFill>
                  <a:srgbClr val="1f497d"/>
                </a:solidFill>
                <a:latin typeface="Calibri"/>
              </a:rPr>
              <a:t>карактеристики</a:t>
            </a:r>
            <a:r>
              <a:rPr b="1" lang="en-GB" sz="2800" spc="-1" strike="noStrike">
                <a:solidFill>
                  <a:srgbClr val="000000"/>
                </a:solidFill>
                <a:latin typeface="Calibri"/>
              </a:rPr>
              <a:t> </a:t>
            </a:r>
            <a:r>
              <a:rPr b="1" lang="mk-MK" sz="2800" spc="-1" strike="noStrike">
                <a:solidFill>
                  <a:srgbClr val="000000"/>
                </a:solidFill>
                <a:latin typeface="Calibri"/>
              </a:rPr>
              <a:t>за да може да се гарантира нивно точно оценување на суд:</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1f497d"/>
                </a:solidFill>
                <a:latin typeface="Calibri"/>
              </a:rPr>
              <a:t> </a:t>
            </a:r>
            <a:r>
              <a:rPr b="1" lang="mk-MK" sz="2800" spc="-1" strike="noStrike">
                <a:solidFill>
                  <a:srgbClr val="1f497d"/>
                </a:solidFill>
                <a:latin typeface="Calibri"/>
              </a:rPr>
              <a:t>Веродостој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Непристрас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Јасн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Да се обезбеди систем за </a:t>
            </a:r>
            <a:r>
              <a:rPr b="1" lang="mk-MK" sz="2800" spc="-1" strike="noStrike">
                <a:solidFill>
                  <a:srgbClr val="1f497d"/>
                </a:solidFill>
                <a:latin typeface="Calibri"/>
              </a:rPr>
              <a:t>список од квалификувани стручњаци</a:t>
            </a:r>
            <a:r>
              <a:rPr b="1" lang="fr-BE" sz="2800" spc="-1" strike="noStrike">
                <a:solidFill>
                  <a:srgbClr val="000000"/>
                </a:solidFill>
                <a:latin typeface="Calibri"/>
              </a:rPr>
              <a:t> </a:t>
            </a:r>
            <a:r>
              <a:rPr b="1" lang="mk-MK" sz="2800" spc="-1" strike="noStrike">
                <a:solidFill>
                  <a:srgbClr val="000000"/>
                </a:solidFill>
                <a:latin typeface="Calibri"/>
              </a:rPr>
              <a:t>за кои страните може да се согласат</a:t>
            </a:r>
            <a:endParaRPr b="0" lang="en-US" sz="28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Да управуваат со обвинение</a:t>
            </a:r>
            <a:endParaRPr b="0" lang="en-US" sz="1900" spc="-1" strike="noStrike">
              <a:solidFill>
                <a:srgbClr val="000000"/>
              </a:solidFill>
              <a:latin typeface="Calibri"/>
            </a:endParaRPr>
          </a:p>
          <a:p>
            <a:pPr marL="343080" indent="-343080">
              <a:lnSpc>
                <a:spcPct val="80000"/>
              </a:lnSpc>
              <a:spcBef>
                <a:spcPts val="476"/>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1f497d"/>
                </a:solidFill>
                <a:latin typeface="Calibri"/>
              </a:rPr>
              <a:t>Да прибираат докази од странство </a:t>
            </a:r>
            <a:r>
              <a:rPr b="0" lang="mk-MK" sz="1900" spc="-1" strike="noStrike">
                <a:solidFill>
                  <a:srgbClr val="000000"/>
                </a:solidFill>
                <a:latin typeface="Calibri"/>
              </a:rPr>
              <a:t>преку барања за правна помош</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a:t>
            </a:r>
            <a:r>
              <a:rPr b="1" lang="mk-MK" sz="1900" spc="-1" strike="noStrike">
                <a:solidFill>
                  <a:srgbClr val="000000"/>
                </a:solidFill>
                <a:latin typeface="Calibri"/>
              </a:rPr>
              <a:t>нема правни или процедурални пречки</a:t>
            </a:r>
            <a:r>
              <a:rPr b="0" lang="mk-MK" sz="1900" spc="-1" strike="noStrike">
                <a:solidFill>
                  <a:srgbClr val="000000"/>
                </a:solidFill>
                <a:latin typeface="Calibri"/>
              </a:rPr>
              <a:t> за барањата за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со </a:t>
            </a:r>
            <a:r>
              <a:rPr b="1" lang="mk-MK" sz="1900" spc="-1" strike="noStrike">
                <a:solidFill>
                  <a:srgbClr val="1f497d"/>
                </a:solidFill>
                <a:latin typeface="Calibri"/>
              </a:rPr>
              <a:t>сведоци во други јурисдикции</a:t>
            </a:r>
            <a:r>
              <a:rPr b="1" lang="en-GB" sz="1900" spc="-1" strike="noStrike">
                <a:solidFill>
                  <a:srgbClr val="1f497d"/>
                </a:solidFill>
                <a:latin typeface="Calibri"/>
              </a:rPr>
              <a:t> </a:t>
            </a:r>
            <a:r>
              <a:rPr b="0" lang="mk-MK" sz="1900" spc="-1" strike="noStrike">
                <a:solidFill>
                  <a:srgbClr val="000000"/>
                </a:solidFill>
                <a:latin typeface="Calibri"/>
              </a:rPr>
              <a:t>во текот на постапкат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Прецизно да ги </a:t>
            </a:r>
            <a:r>
              <a:rPr b="1" lang="mk-MK" sz="1900" spc="-1" strike="noStrike">
                <a:solidFill>
                  <a:srgbClr val="000000"/>
                </a:solidFill>
                <a:latin typeface="Calibri"/>
              </a:rPr>
              <a:t>пополнат или ажурираат</a:t>
            </a:r>
            <a:r>
              <a:rPr b="0" lang="mk-MK" sz="1900" spc="-1" strike="noStrike">
                <a:solidFill>
                  <a:srgbClr val="000000"/>
                </a:solidFill>
                <a:latin typeface="Calibri"/>
              </a:rPr>
              <a:t> сите релевантни документи и постапк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бидат подготвени соодветните акти и потпорни документи, и </a:t>
            </a:r>
            <a:r>
              <a:rPr b="1" lang="mk-MK" sz="1900" spc="-1" strike="noStrike">
                <a:solidFill>
                  <a:srgbClr val="1f497d"/>
                </a:solidFill>
                <a:latin typeface="Calibri"/>
              </a:rPr>
              <a:t>да ги изнесат во соодветниот формат и рок</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a:t>
            </a:r>
            <a:r>
              <a:rPr b="0" lang="en-GB" sz="1900" spc="-1" strike="noStrike">
                <a:solidFill>
                  <a:srgbClr val="000000"/>
                </a:solidFill>
                <a:latin typeface="Calibri"/>
              </a:rPr>
              <a:t>ѝ </a:t>
            </a:r>
            <a:r>
              <a:rPr b="0" lang="mk-MK" sz="1900" spc="-1" strike="noStrike">
                <a:solidFill>
                  <a:srgbClr val="000000"/>
                </a:solidFill>
                <a:latin typeface="Calibri"/>
              </a:rPr>
              <a:t>откријат докази на </a:t>
            </a:r>
            <a:r>
              <a:rPr b="1" lang="mk-MK" sz="1900" spc="-1" strike="noStrike">
                <a:solidFill>
                  <a:srgbClr val="000000"/>
                </a:solidFill>
                <a:latin typeface="Calibri"/>
              </a:rPr>
              <a:t>одбраната</a:t>
            </a:r>
            <a:r>
              <a:rPr b="0" lang="mk-MK" sz="1900" spc="-1" strike="noStrike">
                <a:solidFill>
                  <a:srgbClr val="000000"/>
                </a:solidFill>
                <a:latin typeface="Calibri"/>
              </a:rPr>
              <a:t> (по потреб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на </a:t>
            </a:r>
            <a:r>
              <a:rPr b="1" lang="mk-MK" sz="1900" spc="-1" strike="noStrike">
                <a:solidFill>
                  <a:srgbClr val="1f497d"/>
                </a:solidFill>
                <a:latin typeface="Calibri"/>
              </a:rPr>
              <a:t>допустливоста на електронските и другите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обезбедат </a:t>
            </a:r>
            <a:r>
              <a:rPr b="1" lang="mk-MK" sz="1900" spc="-1" strike="noStrike">
                <a:solidFill>
                  <a:srgbClr val="000000"/>
                </a:solidFill>
                <a:latin typeface="Calibri"/>
              </a:rPr>
              <a:t>усогласеност со ЕКЧП</a:t>
            </a:r>
            <a:r>
              <a:rPr b="0" lang="mk-MK" sz="1900" spc="-1" strike="noStrike">
                <a:solidFill>
                  <a:srgbClr val="000000"/>
                </a:solidFill>
                <a:latin typeface="Calibri"/>
              </a:rPr>
              <a:t> и други одредб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ги знаат улогата и очекувањата од </a:t>
            </a:r>
            <a:r>
              <a:rPr b="1" lang="mk-MK" sz="1900" spc="-1" strike="noStrike">
                <a:solidFill>
                  <a:srgbClr val="1f497d"/>
                </a:solidFill>
                <a:latin typeface="Calibri"/>
              </a:rPr>
              <a:t>вештите сведоц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Во целост да ги документираат </a:t>
            </a:r>
            <a:r>
              <a:rPr b="0" lang="mk-MK" sz="19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посочат </a:t>
            </a:r>
            <a:r>
              <a:rPr b="1" lang="mk-MK" sz="1900" spc="-1" strike="noStrike">
                <a:solidFill>
                  <a:srgbClr val="1f497d"/>
                </a:solidFill>
                <a:latin typeface="Calibri"/>
              </a:rPr>
              <a:t>методи за изведување </a:t>
            </a:r>
            <a:r>
              <a:rPr b="0" lang="mk-MK" sz="1900" spc="-1" strike="noStrike">
                <a:solidFill>
                  <a:srgbClr val="000000"/>
                </a:solidFill>
                <a:latin typeface="Calibri"/>
              </a:rPr>
              <a:t>електронски докази во судска постапк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9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3"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Размислете за методи за изведување</a:t>
            </a:r>
            <a:r>
              <a:rPr b="1" lang="fr-BE"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Размислете за презентација со слајдови</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Размислете за кусо објаснување за електронски докази/технологија релевантни за предметот, за да се постави стандард за сите во судот</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нудете лексикон (признат стандард)</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онудете резиме на предметот и доказите</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кажете ги доказите</a:t>
            </a:r>
            <a:endParaRPr b="0" lang="en-US" sz="22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5" name=""/>
          <p:cNvSpPr txBox="1"/>
          <p:nvPr/>
        </p:nvSpPr>
        <p:spPr>
          <a:xfrm>
            <a:off x="457200" y="1146240"/>
            <a:ext cx="8229600" cy="547056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га правниот систем и средствата дозволув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нудете дигитална копија од документот</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Донесете технологија за презентирање во суд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За големи предмети, прикажете ги доказите на монитори наместо да печатите милиони страни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Пуштете ја осомничената машина/слика на суд за да го прикажете присуството на докази во системот или да прикажете како било сторено делото</a:t>
            </a:r>
            <a:endParaRPr b="0" lang="en-US" sz="20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Да управуваат со обвинение</a:t>
            </a:r>
            <a:endParaRPr b="0" lang="en-US" sz="1800" spc="-1" strike="noStrike">
              <a:solidFill>
                <a:srgbClr val="000000"/>
              </a:solidFill>
              <a:latin typeface="Calibri"/>
            </a:endParaRPr>
          </a:p>
          <a:p>
            <a:pPr marL="343080" indent="-343080">
              <a:lnSpc>
                <a:spcPct val="80000"/>
              </a:lnSpc>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Да прибираат докази од странство </a:t>
            </a:r>
            <a:r>
              <a:rPr b="0" lang="mk-MK" sz="1800" spc="-1" strike="noStrike">
                <a:solidFill>
                  <a:srgbClr val="000000"/>
                </a:solidFill>
                <a:latin typeface="Calibri"/>
              </a:rPr>
              <a:t>преку барања за правна помош</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a:t>
            </a:r>
            <a:r>
              <a:rPr b="1" lang="mk-MK" sz="1800" spc="-1" strike="noStrike">
                <a:solidFill>
                  <a:srgbClr val="000000"/>
                </a:solidFill>
                <a:latin typeface="Calibri"/>
              </a:rPr>
              <a:t>нема правни или процедурални пречки</a:t>
            </a:r>
            <a:r>
              <a:rPr b="0" lang="mk-MK" sz="1800" spc="-1" strike="noStrike">
                <a:solidFill>
                  <a:srgbClr val="000000"/>
                </a:solidFill>
                <a:latin typeface="Calibri"/>
              </a:rPr>
              <a:t> за барањата за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со </a:t>
            </a:r>
            <a:r>
              <a:rPr b="1" lang="mk-MK" sz="1800" spc="-1" strike="noStrike">
                <a:solidFill>
                  <a:srgbClr val="1f497d"/>
                </a:solidFill>
                <a:latin typeface="Calibri"/>
              </a:rPr>
              <a:t>сведоци во други јурисдикции</a:t>
            </a:r>
            <a:r>
              <a:rPr b="1" lang="en-GB" sz="1800" spc="-1" strike="noStrike">
                <a:solidFill>
                  <a:srgbClr val="1f497d"/>
                </a:solidFill>
                <a:latin typeface="Calibri"/>
              </a:rPr>
              <a:t> </a:t>
            </a:r>
            <a:r>
              <a:rPr b="0" lang="mk-MK" sz="1800" spc="-1" strike="noStrike">
                <a:solidFill>
                  <a:srgbClr val="000000"/>
                </a:solidFill>
                <a:latin typeface="Calibri"/>
              </a:rPr>
              <a:t>во текот на постапка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да ги </a:t>
            </a:r>
            <a:r>
              <a:rPr b="1" lang="mk-MK" sz="1800" spc="-1" strike="noStrike">
                <a:solidFill>
                  <a:srgbClr val="000000"/>
                </a:solidFill>
                <a:latin typeface="Calibri"/>
              </a:rPr>
              <a:t>пополнат или ажурираат</a:t>
            </a:r>
            <a:r>
              <a:rPr b="0" lang="mk-MK" sz="1800" spc="-1" strike="noStrike">
                <a:solidFill>
                  <a:srgbClr val="000000"/>
                </a:solidFill>
                <a:latin typeface="Calibri"/>
              </a:rPr>
              <a:t> сите релевантни документи и постапк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бидат подготвени соодветните акти и потпорни документи, и </a:t>
            </a:r>
            <a:r>
              <a:rPr b="1" lang="mk-MK" sz="1800" spc="-1" strike="noStrike">
                <a:solidFill>
                  <a:srgbClr val="1f497d"/>
                </a:solidFill>
                <a:latin typeface="Calibri"/>
              </a:rPr>
              <a:t>да ги изнесат во соодветните формат и ро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a:t>
            </a:r>
            <a:r>
              <a:rPr b="0" lang="en-GB" sz="1800" spc="-1" strike="noStrike">
                <a:solidFill>
                  <a:srgbClr val="000000"/>
                </a:solidFill>
                <a:latin typeface="Calibri"/>
              </a:rPr>
              <a:t>ѝ </a:t>
            </a:r>
            <a:r>
              <a:rPr b="0" lang="mk-MK" sz="1800" spc="-1" strike="noStrike">
                <a:solidFill>
                  <a:srgbClr val="000000"/>
                </a:solidFill>
                <a:latin typeface="Calibri"/>
              </a:rPr>
              <a:t>откријат докази на </a:t>
            </a:r>
            <a:r>
              <a:rPr b="1" lang="mk-MK" sz="1800" spc="-1" strike="noStrike">
                <a:solidFill>
                  <a:srgbClr val="000000"/>
                </a:solidFill>
                <a:latin typeface="Calibri"/>
              </a:rPr>
              <a:t>одбраната</a:t>
            </a:r>
            <a:r>
              <a:rPr b="0" lang="mk-MK" sz="1800" spc="-1" strike="noStrike">
                <a:solidFill>
                  <a:srgbClr val="000000"/>
                </a:solidFill>
                <a:latin typeface="Calibri"/>
              </a:rPr>
              <a:t> (по потреб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на </a:t>
            </a:r>
            <a:r>
              <a:rPr b="1" lang="mk-MK" sz="1800" spc="-1" strike="noStrike">
                <a:solidFill>
                  <a:srgbClr val="1f497d"/>
                </a:solidFill>
                <a:latin typeface="Calibri"/>
              </a:rPr>
              <a:t>допустливоста на електронските и другите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обезбедат </a:t>
            </a:r>
            <a:r>
              <a:rPr b="1" lang="mk-MK" sz="1800" spc="-1" strike="noStrike">
                <a:solidFill>
                  <a:srgbClr val="000000"/>
                </a:solidFill>
                <a:latin typeface="Calibri"/>
              </a:rPr>
              <a:t>усогласеност со ЕКЧП</a:t>
            </a:r>
            <a:r>
              <a:rPr b="0" lang="mk-MK" sz="1800" spc="-1" strike="noStrike">
                <a:solidFill>
                  <a:srgbClr val="000000"/>
                </a:solidFill>
                <a:latin typeface="Calibri"/>
              </a:rPr>
              <a:t> и други одредб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знаат улогата и очекувањата од </a:t>
            </a:r>
            <a:r>
              <a:rPr b="1" lang="mk-MK" sz="1800" spc="-1" strike="noStrike">
                <a:solidFill>
                  <a:srgbClr val="1f497d"/>
                </a:solidFill>
                <a:latin typeface="Calibri"/>
              </a:rPr>
              <a:t>вештите сведоц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Во целост да ги документираат </a:t>
            </a:r>
            <a:r>
              <a:rPr b="0" lang="mk-MK" sz="18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посочат </a:t>
            </a:r>
            <a:r>
              <a:rPr b="1" lang="mk-MK" sz="1800" spc="-1" strike="noStrike">
                <a:solidFill>
                  <a:srgbClr val="1f497d"/>
                </a:solidFill>
                <a:latin typeface="Calibri"/>
              </a:rPr>
              <a:t>методи за изведување </a:t>
            </a:r>
            <a:r>
              <a:rPr b="0" lang="mk-MK" sz="1800" spc="-1" strike="noStrike">
                <a:solidFill>
                  <a:srgbClr val="000000"/>
                </a:solidFill>
                <a:latin typeface="Calibri"/>
              </a:rPr>
              <a:t>електронски докази во судска постапка</a:t>
            </a:r>
            <a:endParaRPr b="0" lang="en-US" sz="1800" spc="-1" strike="noStrike">
              <a:solidFill>
                <a:srgbClr val="000000"/>
              </a:solidFill>
              <a:latin typeface="Calibri"/>
            </a:endParaRPr>
          </a:p>
        </p:txBody>
      </p:sp>
      <p:sp>
        <p:nvSpPr>
          <p:cNvPr id="3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 of Session Objectives</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59" name="TextBox 3"/>
          <p:cNvSpPr/>
          <p:nvPr/>
        </p:nvSpPr>
        <p:spPr>
          <a:xfrm>
            <a:off x="3028680" y="96984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ување податоци во Европа</a:t>
            </a: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ирективата</a:t>
            </a:r>
            <a:r>
              <a:rPr b="0" lang="en-US" sz="2400" spc="-1" strike="noStrike">
                <a:solidFill>
                  <a:srgbClr val="000000"/>
                </a:solidFill>
                <a:latin typeface="Calibri"/>
              </a:rPr>
              <a:t> 2006/24/</a:t>
            </a:r>
            <a:r>
              <a:rPr b="0" lang="mk-MK" sz="2400" spc="-1" strike="noStrike">
                <a:solidFill>
                  <a:srgbClr val="000000"/>
                </a:solidFill>
                <a:latin typeface="Calibri"/>
              </a:rPr>
              <a:t>ЕЗ</a:t>
            </a:r>
            <a:r>
              <a:rPr b="0" lang="en-US" sz="2400" spc="-1" strike="noStrike">
                <a:solidFill>
                  <a:srgbClr val="000000"/>
                </a:solidFill>
                <a:latin typeface="Calibri"/>
              </a:rPr>
              <a:t> </a:t>
            </a:r>
            <a:r>
              <a:rPr b="0" lang="mk-MK" sz="2400" spc="-1" strike="noStrike">
                <a:solidFill>
                  <a:srgbClr val="000000"/>
                </a:solidFill>
                <a:latin typeface="Calibri"/>
              </a:rPr>
              <a:t>на Европскиот Парламент и на Советот од </a:t>
            </a:r>
            <a:r>
              <a:rPr b="0" lang="en-US" sz="2400" spc="-1" strike="noStrike">
                <a:solidFill>
                  <a:srgbClr val="000000"/>
                </a:solidFill>
                <a:latin typeface="Calibri"/>
              </a:rPr>
              <a:t>15</a:t>
            </a:r>
            <a:r>
              <a:rPr b="0" lang="mk-MK" sz="2400" spc="-1" strike="noStrike">
                <a:solidFill>
                  <a:srgbClr val="000000"/>
                </a:solidFill>
                <a:latin typeface="Calibri"/>
              </a:rPr>
              <a:t>-ти март</a:t>
            </a:r>
            <a:r>
              <a:rPr b="0" lang="en-US" sz="2400" spc="-1" strike="noStrike">
                <a:solidFill>
                  <a:srgbClr val="000000"/>
                </a:solidFill>
                <a:latin typeface="Calibri"/>
              </a:rPr>
              <a:t> 2006: </a:t>
            </a:r>
            <a:br>
              <a:rPr sz="2400"/>
            </a:br>
            <a:r>
              <a:rPr b="0" i="1" lang="mk-MK" sz="2000" spc="-1" strike="noStrike">
                <a:solidFill>
                  <a:srgbClr val="000000"/>
                </a:solidFill>
                <a:latin typeface="Calibri"/>
              </a:rPr>
              <a:t>„Земјите-членки обезбедуваат категориите подтоци наведени во Член 5 да се чуваат </a:t>
            </a:r>
            <a:r>
              <a:rPr b="1" i="1" lang="mk-MK" sz="2000" spc="-1" strike="noStrike">
                <a:solidFill>
                  <a:srgbClr val="1f497d"/>
                </a:solidFill>
                <a:latin typeface="Calibri"/>
              </a:rPr>
              <a:t>најмалку шест месеци, а најмногу две години</a:t>
            </a:r>
            <a:r>
              <a:rPr b="0" i="1" lang="en-US" sz="2000" spc="-1" strike="noStrike">
                <a:solidFill>
                  <a:srgbClr val="000000"/>
                </a:solidFill>
                <a:latin typeface="Calibri"/>
              </a:rPr>
              <a:t> </a:t>
            </a:r>
            <a:r>
              <a:rPr b="0" i="1" lang="mk-MK" sz="2000" spc="-1" strike="noStrike">
                <a:solidFill>
                  <a:srgbClr val="000000"/>
                </a:solidFill>
                <a:latin typeface="Calibri"/>
              </a:rPr>
              <a:t>од денот на комуникацијата.“</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пишаното</a:t>
            </a:r>
            <a:r>
              <a:rPr b="0" lang="en-US" sz="2400" spc="-1" strike="noStrike">
                <a:solidFill>
                  <a:srgbClr val="000000"/>
                </a:solidFill>
                <a:latin typeface="Calibri"/>
              </a:rPr>
              <a:t> </a:t>
            </a:r>
            <a:r>
              <a:rPr b="0" lang="en-US" sz="2400" spc="-1" strike="noStrike">
                <a:solidFill>
                  <a:srgbClr val="000000"/>
                </a:solidFill>
                <a:latin typeface="Calibri"/>
                <a:ea typeface="Tahoma"/>
              </a:rPr>
              <a:t>&gt; </a:t>
            </a:r>
            <a:r>
              <a:rPr b="0" lang="mk-MK" sz="2000" spc="-1" strike="noStrike">
                <a:solidFill>
                  <a:srgbClr val="000000"/>
                </a:solidFill>
                <a:latin typeface="Calibri"/>
                <a:ea typeface="Tahoma"/>
              </a:rPr>
              <a:t>периодот на чување податоци</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ea typeface="Tahoma"/>
              </a:rPr>
              <a:t>Кога веќе ќе бидете на суд, ќе немате втора шанса</a:t>
            </a:r>
            <a:endParaRPr b="0" lang="en-US" sz="2400" spc="-1" strike="noStrike">
              <a:solidFill>
                <a:srgbClr val="000000"/>
              </a:solidFill>
              <a:latin typeface="Calibri"/>
            </a:endParaRPr>
          </a:p>
        </p:txBody>
      </p:sp>
      <p:sp>
        <p:nvSpPr>
          <p:cNvPr id="361"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Имајте ја предвид нестабилноста</a:t>
            </a:r>
            <a:br>
              <a:rPr sz="3600"/>
            </a:br>
            <a:r>
              <a:rPr b="1" lang="mk-MK" sz="3600" spc="-1" strike="noStrike">
                <a:solidFill>
                  <a:srgbClr val="000000"/>
                </a:solidFill>
                <a:latin typeface="Calibri"/>
              </a:rPr>
              <a:t>на дигиталните докази</a:t>
            </a:r>
            <a:endParaRPr b="0" lang="en-US" sz="3600" spc="-1" strike="noStrike">
              <a:solidFill>
                <a:srgbClr val="000000"/>
              </a:solidFill>
              <a:latin typeface="Calibri"/>
            </a:endParaRPr>
          </a:p>
        </p:txBody>
      </p:sp>
      <p:sp>
        <p:nvSpPr>
          <p:cNvPr id="362"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4"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C2DDC-62CC-488F-850D-A38E14357056}"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6"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0" name="Picture 26" descr="IN00561_"/>
          <p:cNvPicPr/>
          <p:nvPr/>
        </p:nvPicPr>
        <p:blipFill>
          <a:blip r:embed="rId1"/>
          <a:stretch/>
        </p:blipFill>
        <p:spPr>
          <a:xfrm>
            <a:off x="3639960" y="2743200"/>
            <a:ext cx="1008360" cy="1257480"/>
          </a:xfrm>
          <a:prstGeom prst="rect">
            <a:avLst/>
          </a:prstGeom>
          <a:ln w="0">
            <a:noFill/>
          </a:ln>
        </p:spPr>
      </p:pic>
      <p:sp>
        <p:nvSpPr>
          <p:cNvPr id="391"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
          <p:cNvSpPr/>
          <p:nvPr/>
        </p:nvSpPr>
        <p:spPr>
          <a:xfrm>
            <a:off x="0" y="56386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600" spc="-1" strike="noStrike">
                <a:solidFill>
                  <a:srgbClr val="fc2610"/>
                </a:solidFill>
                <a:latin typeface="Calibri"/>
              </a:rPr>
              <a:t>СЕКОГАШ ИМАЈТЕ НА УМ ДЕКА НЕКОЈ МОЖЕ ДА Е НЕВИН!!!</a:t>
            </a:r>
            <a:endParaRPr b="0" lang="en-US" sz="2600" spc="-1" strike="noStrike">
              <a:solidFill>
                <a:srgbClr val="000000"/>
              </a:solidFill>
              <a:latin typeface="Arial"/>
            </a:endParaRPr>
          </a:p>
        </p:txBody>
      </p:sp>
      <p:sp>
        <p:nvSpPr>
          <p:cNvPr id="416"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3"/>
                                        </p:tgtEl>
                                        <p:attrNameLst>
                                          <p:attrName>style.visibility</p:attrName>
                                        </p:attrNameLst>
                                      </p:cBhvr>
                                      <p:to>
                                        <p:strVal val="visible"/>
                                      </p:to>
                                    </p:set>
                                    <p:animEffect filter="dissolve" transition="in">
                                      <p:cBhvr additive="repl">
                                        <p:cTn id="7" dur="500"/>
                                        <p:tgtEl>
                                          <p:spTgt spid="39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4"/>
                                        </p:tgtEl>
                                        <p:attrNameLst>
                                          <p:attrName>style.visibility</p:attrName>
                                        </p:attrNameLst>
                                      </p:cBhvr>
                                      <p:to>
                                        <p:strVal val="visible"/>
                                      </p:to>
                                    </p:set>
                                    <p:animEffect filter="dissolve" transition="in">
                                      <p:cBhvr additive="repl">
                                        <p:cTn id="11" dur="500"/>
                                        <p:tgtEl>
                                          <p:spTgt spid="394"/>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5"/>
                                        </p:tgtEl>
                                        <p:attrNameLst>
                                          <p:attrName>style.visibility</p:attrName>
                                        </p:attrNameLst>
                                      </p:cBhvr>
                                      <p:to>
                                        <p:strVal val="visible"/>
                                      </p:to>
                                    </p:set>
                                    <p:animEffect filter="dissolve" transition="in">
                                      <p:cBhvr additive="repl">
                                        <p:cTn id="15" dur="500"/>
                                        <p:tgtEl>
                                          <p:spTgt spid="39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1"/>
                                        </p:tgtEl>
                                        <p:attrNameLst>
                                          <p:attrName>style.visibility</p:attrName>
                                        </p:attrNameLst>
                                      </p:cBhvr>
                                      <p:to>
                                        <p:strVal val="visible"/>
                                      </p:to>
                                    </p:set>
                                    <p:animEffect filter="dissolve" transition="in">
                                      <p:cBhvr additive="repl">
                                        <p:cTn id="20" dur="500"/>
                                        <p:tgtEl>
                                          <p:spTgt spid="39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6"/>
                                        </p:tgtEl>
                                        <p:attrNameLst>
                                          <p:attrName>style.visibility</p:attrName>
                                        </p:attrNameLst>
                                      </p:cBhvr>
                                      <p:to>
                                        <p:strVal val="visible"/>
                                      </p:to>
                                    </p:set>
                                    <p:animEffect filter="dissolve" transition="in">
                                      <p:cBhvr additive="repl">
                                        <p:cTn id="25" dur="500"/>
                                        <p:tgtEl>
                                          <p:spTgt spid="396"/>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7"/>
                                        </p:tgtEl>
                                        <p:attrNameLst>
                                          <p:attrName>style.visibility</p:attrName>
                                        </p:attrNameLst>
                                      </p:cBhvr>
                                      <p:to>
                                        <p:strVal val="visible"/>
                                      </p:to>
                                    </p:set>
                                    <p:animEffect filter="dissolve" transition="in">
                                      <p:cBhvr additive="repl">
                                        <p:cTn id="29" dur="500"/>
                                        <p:tgtEl>
                                          <p:spTgt spid="397"/>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8"/>
                                        </p:tgtEl>
                                        <p:attrNameLst>
                                          <p:attrName>style.visibility</p:attrName>
                                        </p:attrNameLst>
                                      </p:cBhvr>
                                      <p:to>
                                        <p:strVal val="visible"/>
                                      </p:to>
                                    </p:set>
                                    <p:animEffect filter="dissolve" transition="in">
                                      <p:cBhvr additive="repl">
                                        <p:cTn id="33" dur="500"/>
                                        <p:tgtEl>
                                          <p:spTgt spid="398"/>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399"/>
                                        </p:tgtEl>
                                        <p:attrNameLst>
                                          <p:attrName>style.visibility</p:attrName>
                                        </p:attrNameLst>
                                      </p:cBhvr>
                                      <p:to>
                                        <p:strVal val="visible"/>
                                      </p:to>
                                    </p:set>
                                    <p:animEffect filter="dissolve" transition="in">
                                      <p:cBhvr additive="repl">
                                        <p:cTn id="37" dur="500"/>
                                        <p:tgtEl>
                                          <p:spTgt spid="399"/>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0"/>
                                        </p:tgtEl>
                                        <p:attrNameLst>
                                          <p:attrName>style.visibility</p:attrName>
                                        </p:attrNameLst>
                                      </p:cBhvr>
                                      <p:to>
                                        <p:strVal val="visible"/>
                                      </p:to>
                                    </p:set>
                                    <p:animEffect filter="dissolve" transition="in">
                                      <p:cBhvr additive="repl">
                                        <p:cTn id="41" dur="500"/>
                                        <p:tgtEl>
                                          <p:spTgt spid="400"/>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1"/>
                                        </p:tgtEl>
                                        <p:attrNameLst>
                                          <p:attrName>style.visibility</p:attrName>
                                        </p:attrNameLst>
                                      </p:cBhvr>
                                      <p:to>
                                        <p:strVal val="visible"/>
                                      </p:to>
                                    </p:set>
                                    <p:animEffect filter="dissolve" transition="in">
                                      <p:cBhvr additive="repl">
                                        <p:cTn id="45" dur="500"/>
                                        <p:tgtEl>
                                          <p:spTgt spid="401"/>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2"/>
                                        </p:tgtEl>
                                        <p:attrNameLst>
                                          <p:attrName>style.visibility</p:attrName>
                                        </p:attrNameLst>
                                      </p:cBhvr>
                                      <p:to>
                                        <p:strVal val="visible"/>
                                      </p:to>
                                    </p:set>
                                    <p:animEffect filter="dissolve" transition="in">
                                      <p:cBhvr additive="repl">
                                        <p:cTn id="49" dur="500"/>
                                        <p:tgtEl>
                                          <p:spTgt spid="402"/>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3"/>
                                        </p:tgtEl>
                                        <p:attrNameLst>
                                          <p:attrName>style.visibility</p:attrName>
                                        </p:attrNameLst>
                                      </p:cBhvr>
                                      <p:to>
                                        <p:strVal val="visible"/>
                                      </p:to>
                                    </p:set>
                                    <p:animEffect filter="dissolve" transition="in">
                                      <p:cBhvr additive="repl">
                                        <p:cTn id="53" dur="500"/>
                                        <p:tgtEl>
                                          <p:spTgt spid="4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0"/>
                                        </p:tgtEl>
                                        <p:attrNameLst>
                                          <p:attrName>style.visibility</p:attrName>
                                        </p:attrNameLst>
                                      </p:cBhvr>
                                      <p:to>
                                        <p:strVal val="visible"/>
                                      </p:to>
                                    </p:set>
                                    <p:anim calcmode="lin" valueType="num">
                                      <p:cBhvr additive="base">
                                        <p:cTn id="58" dur="500" fill="hold"/>
                                        <p:tgtEl>
                                          <p:spTgt spid="390"/>
                                        </p:tgtEl>
                                        <p:attrNameLst>
                                          <p:attrName>ppt_x</p:attrName>
                                        </p:attrNameLst>
                                      </p:cBhvr>
                                      <p:tavLst>
                                        <p:tav tm="0">
                                          <p:val>
                                            <p:strVal val="#ppt_x"/>
                                          </p:val>
                                        </p:tav>
                                        <p:tav tm="100000">
                                          <p:val>
                                            <p:strVal val="#ppt_x"/>
                                          </p:val>
                                        </p:tav>
                                      </p:tavLst>
                                    </p:anim>
                                    <p:anim calcmode="lin" valueType="num">
                                      <p:cBhvr additive="base">
                                        <p:cTn id="59"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2828880" y="457200"/>
            <a:ext cx="3673440" cy="5977080"/>
            <a:chOff x="2828880" y="457200"/>
            <a:chExt cx="3673440" cy="5977080"/>
          </a:xfrm>
        </p:grpSpPr>
        <p:sp>
          <p:nvSpPr>
            <p:cNvPr id="9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8"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Одење</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 суд</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Вовед</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овед</a:t>
            </a:r>
            <a:endParaRPr b="0" lang="en-US" sz="4400" spc="-1" strike="noStrike">
              <a:solidFill>
                <a:srgbClr val="000000"/>
              </a:solidFill>
              <a:latin typeface="Calibri"/>
            </a:endParaRPr>
          </a:p>
        </p:txBody>
      </p:sp>
      <p:sp>
        <p:nvSpPr>
          <p:cNvPr id="140" name=""/>
          <p:cNvSpPr txBox="1"/>
          <p:nvPr/>
        </p:nvSpPr>
        <p:spPr>
          <a:xfrm>
            <a:off x="457200" y="1145880"/>
            <a:ext cx="8229600" cy="49798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мбинирање на најдоброто од двете</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кузаторен пристап</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Инквизиторен пристап</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дење на обвинението</a:t>
            </a:r>
            <a:r>
              <a:rPr b="1" lang="fr-BE" sz="2800" spc="-1" strike="noStrike">
                <a:solidFill>
                  <a:srgbClr val="1f497d"/>
                </a:solidFill>
                <a:latin typeface="Calibri"/>
              </a:rPr>
              <a:t> </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нтитет</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000" spc="-1" strike="noStrike">
                <a:solidFill>
                  <a:srgbClr val="000000"/>
                </a:solidFill>
                <a:latin typeface="Calibri"/>
              </a:rPr>
              <a:t>de minimis non curat praetor</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mk-MK" sz="2000" spc="-1" strike="noStrike">
                <a:solidFill>
                  <a:srgbClr val="000000"/>
                </a:solidFill>
                <a:latin typeface="Calibri"/>
              </a:rPr>
              <a:t>помалку може да е повеќе</a:t>
            </a:r>
            <a:endParaRPr b="0" lang="en-US" sz="20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2"/>
          <p:cNvGrpSpPr/>
          <p:nvPr/>
        </p:nvGrpSpPr>
        <p:grpSpPr>
          <a:xfrm>
            <a:off x="2828880" y="457200"/>
            <a:ext cx="3673440" cy="5977080"/>
            <a:chOff x="2828880" y="457200"/>
            <a:chExt cx="3673440" cy="5977080"/>
          </a:xfrm>
        </p:grpSpPr>
        <p:sp>
          <p:nvSpPr>
            <p:cNvPr id="1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6"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за на суд</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 за на суд</a:t>
            </a:r>
            <a:endParaRPr b="0" lang="en-US" sz="3600" spc="-1" strike="noStrike">
              <a:solidFill>
                <a:srgbClr val="000000"/>
              </a:solidFill>
              <a:latin typeface="Calibri"/>
            </a:endParaRPr>
          </a:p>
        </p:txBody>
      </p:sp>
      <p:sp>
        <p:nvSpPr>
          <p:cNvPr id="188" name=""/>
          <p:cNvSpPr txBox="1"/>
          <p:nvPr/>
        </p:nvSpPr>
        <p:spPr>
          <a:xfrm>
            <a:off x="457200" y="11458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правете</a:t>
            </a:r>
            <a:r>
              <a:rPr b="0" lang="fr-BE" sz="2800" spc="-1" strike="noStrike">
                <a:solidFill>
                  <a:srgbClr val="000000"/>
                </a:solidFill>
                <a:latin typeface="Calibri"/>
              </a:rPr>
              <a:t> </a:t>
            </a:r>
            <a:r>
              <a:rPr b="1" lang="mk-MK" sz="2800" spc="-1" strike="noStrike">
                <a:solidFill>
                  <a:srgbClr val="1f497d"/>
                </a:solidFill>
                <a:latin typeface="Calibri"/>
              </a:rPr>
              <a:t>план за обвинение</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ецизно</a:t>
            </a:r>
            <a:r>
              <a:rPr b="0" lang="en-GB" sz="2800" spc="-1" strike="noStrike">
                <a:solidFill>
                  <a:srgbClr val="000000"/>
                </a:solidFill>
                <a:latin typeface="Calibri"/>
              </a:rPr>
              <a:t> </a:t>
            </a:r>
            <a:r>
              <a:rPr b="1" lang="mk-MK" sz="2800" spc="-1" strike="noStrike">
                <a:solidFill>
                  <a:srgbClr val="1f497d"/>
                </a:solidFill>
                <a:latin typeface="Calibri"/>
              </a:rPr>
              <a:t>пополнете ги или ажурирајте ги</a:t>
            </a:r>
            <a:r>
              <a:rPr b="1" lang="en-GB" sz="2800" spc="-1" strike="noStrike">
                <a:solidFill>
                  <a:srgbClr val="000000"/>
                </a:solidFill>
                <a:latin typeface="Calibri"/>
              </a:rPr>
              <a:t> </a:t>
            </a:r>
            <a:r>
              <a:rPr b="0" lang="mk-MK" sz="2800" spc="-1" strike="noStrike">
                <a:solidFill>
                  <a:srgbClr val="000000"/>
                </a:solidFill>
                <a:latin typeface="Calibri"/>
              </a:rPr>
              <a:t>сите релевантни документи и постапки</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дали се подготвени соодветните </a:t>
            </a:r>
            <a:r>
              <a:rPr b="1" lang="mk-MK" sz="2800" spc="-1" strike="noStrike">
                <a:solidFill>
                  <a:srgbClr val="1f497d"/>
                </a:solidFill>
                <a:latin typeface="Calibri"/>
              </a:rPr>
              <a:t>акти и потпорни документи</a:t>
            </a:r>
            <a:r>
              <a:rPr b="0" lang="mk-MK" sz="2800" spc="-1" strike="noStrike">
                <a:solidFill>
                  <a:srgbClr val="000000"/>
                </a:solidFill>
                <a:latin typeface="Calibri"/>
              </a:rPr>
              <a:t> и изведете ги во соодветните формат и рок</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Откријте </a:t>
            </a:r>
            <a:r>
              <a:rPr b="1" lang="en-GB" sz="2800" spc="-1" strike="noStrike">
                <a:solidFill>
                  <a:srgbClr val="1f497d"/>
                </a:solidFill>
                <a:latin typeface="Calibri"/>
              </a:rPr>
              <a:t>ѝ</a:t>
            </a:r>
            <a:r>
              <a:rPr b="0" lang="en-GB" sz="2800" spc="-1" strike="noStrike">
                <a:solidFill>
                  <a:srgbClr val="000000"/>
                </a:solidFill>
                <a:latin typeface="Calibri"/>
              </a:rPr>
              <a:t> </a:t>
            </a:r>
            <a:r>
              <a:rPr b="1" lang="mk-MK" sz="2800" spc="-1" strike="noStrike">
                <a:solidFill>
                  <a:srgbClr val="1f497d"/>
                </a:solidFill>
                <a:latin typeface="Calibri"/>
              </a:rPr>
              <a:t>докази </a:t>
            </a:r>
            <a:r>
              <a:rPr b="0" lang="mk-MK" sz="2800" spc="-1" strike="noStrike">
                <a:solidFill>
                  <a:srgbClr val="000000"/>
                </a:solidFill>
                <a:latin typeface="Calibri"/>
              </a:rPr>
              <a:t>на одбраната</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грижете се да </a:t>
            </a:r>
            <a:r>
              <a:rPr b="1" lang="mk-MK" sz="2800" spc="-1" strike="noStrike">
                <a:solidFill>
                  <a:srgbClr val="1f497d"/>
                </a:solidFill>
                <a:latin typeface="Calibri"/>
              </a:rPr>
              <a:t>нема правни или процедурални пречки</a:t>
            </a:r>
            <a:r>
              <a:rPr b="0" lang="en-GB" sz="2800" spc="-1" strike="noStrike">
                <a:solidFill>
                  <a:srgbClr val="000000"/>
                </a:solidFill>
                <a:latin typeface="Calibri"/>
              </a:rPr>
              <a:t> </a:t>
            </a:r>
            <a:r>
              <a:rPr b="0" lang="mk-MK" sz="2800" spc="-1" strike="noStrike">
                <a:solidFill>
                  <a:srgbClr val="000000"/>
                </a:solidFill>
                <a:latin typeface="Calibri"/>
              </a:rPr>
              <a:t>за барањата за докази</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 целост документирајте ги</a:t>
            </a:r>
            <a:r>
              <a:rPr b="0" lang="mk-MK" sz="2800" spc="-1" strike="noStrike">
                <a:solidFill>
                  <a:srgbClr val="000000"/>
                </a:solidFill>
                <a:latin typeface="Calibri"/>
              </a:rPr>
              <a:t> сите одлуки, активности, опции и логиката во согласност со тековните политики и законодавств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и</a:t>
            </a:r>
            <a:r>
              <a:rPr b="0" lang="fr-BE" sz="2800" spc="-1" strike="noStrike">
                <a:solidFill>
                  <a:srgbClr val="000000"/>
                </a:solidFill>
                <a:latin typeface="Calibri"/>
              </a:rPr>
              <a:t> </a:t>
            </a:r>
            <a:r>
              <a:rPr b="1" lang="mk-MK" sz="2800" spc="-1" strike="noStrike">
                <a:solidFill>
                  <a:srgbClr val="1f497d"/>
                </a:solidFill>
                <a:latin typeface="Calibri"/>
              </a:rPr>
              <a:t>препроверете ги</a:t>
            </a:r>
            <a:r>
              <a:rPr b="0" lang="fr-BE" sz="2800" spc="-1" strike="noStrike">
                <a:solidFill>
                  <a:srgbClr val="000000"/>
                </a:solidFill>
                <a:latin typeface="Calibri"/>
              </a:rPr>
              <a:t> </a:t>
            </a:r>
            <a:r>
              <a:rPr b="0" lang="mk-MK" sz="2800" spc="-1" strike="noStrike">
                <a:solidFill>
                  <a:srgbClr val="000000"/>
                </a:solidFill>
                <a:latin typeface="Calibri"/>
              </a:rPr>
              <a:t>дигиталните докази</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Group 2"/>
          <p:cNvGrpSpPr/>
          <p:nvPr/>
        </p:nvGrpSpPr>
        <p:grpSpPr>
          <a:xfrm>
            <a:off x="2828880" y="457200"/>
            <a:ext cx="3673440" cy="5977080"/>
            <a:chOff x="2828880" y="457200"/>
            <a:chExt cx="3673440" cy="5977080"/>
          </a:xfrm>
        </p:grpSpPr>
        <p:sp>
          <p:nvSpPr>
            <p:cNvPr id="1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4" name="TextBox 48"/>
          <p:cNvSpPr/>
          <p:nvPr/>
        </p:nvSpPr>
        <p:spPr>
          <a:xfrm>
            <a:off x="3144960" y="2654280"/>
            <a:ext cx="3068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во виртуелниот простор</a:t>
            </a:r>
            <a:endParaRPr b="0"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 на дигиталните докази во виртуелниот простор</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Проблеми со дигиталните докази</a:t>
            </a:r>
            <a:r>
              <a:rPr b="1" lang="en-GB"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стабилни</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Лесно се манипулир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Тешко се добиваат</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Тешко се докажува потекло и автентичнос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ма територијални граници</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Справување со природата</a:t>
            </a:r>
            <a:br>
              <a:rPr sz="4000"/>
            </a:br>
            <a:r>
              <a:rPr b="1" lang="mk-MK" sz="4000" spc="-1" strike="noStrike">
                <a:solidFill>
                  <a:srgbClr val="122031"/>
                </a:solidFill>
                <a:latin typeface="Calibri"/>
              </a:rPr>
              <a:t>на дигиталните докази</a:t>
            </a:r>
            <a:endParaRPr b="0" lang="en-US" sz="4000" spc="-1" strike="noStrike">
              <a:solidFill>
                <a:srgbClr val="000000"/>
              </a:solidFill>
              <a:latin typeface="Calibri"/>
            </a:endParaRPr>
          </a:p>
        </p:txBody>
      </p:sp>
      <p:sp>
        <p:nvSpPr>
          <p:cNvPr id="238"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облем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стабилн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Лесно се манипулираат</a:t>
            </a:r>
            <a:endParaRPr b="0" lang="en-US" sz="21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Тешко се добиваат</a:t>
            </a: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spcBef>
                <a:spcPts val="52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Тешко се докажува потекло и автентичност</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ма територијални границ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p:txBody>
      </p:sp>
      <p:sp>
        <p:nvSpPr>
          <p:cNvPr id="239"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ИСТАП</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Бидете брзи и свесни за</a:t>
            </a:r>
            <a:r>
              <a:rPr b="1" lang="en-GB" sz="2000" spc="-1" strike="noStrike">
                <a:solidFill>
                  <a:srgbClr val="000000"/>
                </a:solidFill>
                <a:latin typeface="Calibri"/>
              </a:rPr>
              <a:t> ≠ </a:t>
            </a:r>
            <a:r>
              <a:rPr b="1" lang="mk-MK" sz="2000" spc="-1" strike="noStrike">
                <a:solidFill>
                  <a:srgbClr val="000000"/>
                </a:solidFill>
                <a:latin typeface="Calibri"/>
              </a:rPr>
              <a:t>правилата за држење подато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Обезбедете го интегритет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Домашно право</a:t>
            </a:r>
            <a:r>
              <a:rPr b="1" lang="en-GB" sz="2000" spc="-1" strike="noStrike">
                <a:solidFill>
                  <a:srgbClr val="000000"/>
                </a:solidFill>
                <a:latin typeface="Calibri"/>
              </a:rPr>
              <a:t>, </a:t>
            </a:r>
            <a:r>
              <a:rPr b="1" lang="mk-MK" sz="2000" spc="-1" strike="noStrike">
                <a:solidFill>
                  <a:srgbClr val="000000"/>
                </a:solidFill>
                <a:latin typeface="Calibri"/>
              </a:rPr>
              <a:t>барања за помош, офицери за врска, Европска судска мрежа, контакт точките за СЕ,</a:t>
            </a:r>
            <a:r>
              <a:rPr b="1" lang="en-GB" sz="2000" spc="-1" strike="noStrike">
                <a:solidFill>
                  <a:srgbClr val="000000"/>
                </a:solidFill>
                <a:latin typeface="Calibri"/>
              </a:rPr>
              <a:t> GPEN</a:t>
            </a:r>
            <a:endParaRPr b="0" lang="en-US" sz="20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Во целост документирајте ги сите активности, барања и форензика</a:t>
            </a:r>
            <a:endParaRPr b="0" lang="en-US" sz="2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ледете ги правилата за прекугранична соработка</a:t>
            </a:r>
            <a:r>
              <a:rPr b="1"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AutoShape 11">
            <a:hlinkClick r:id="rId1" action="ppaction://hlinksldjump"/>
          </p:cNvPr>
          <p:cNvSpPr/>
          <p:nvPr/>
        </p:nvSpPr>
        <p:spPr>
          <a:xfrm>
            <a:off x="8567640" y="115884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8-15T21:17:37Z</dcterms:modified>
  <cp:revision>158</cp:revision>
  <dc:subject/>
  <dc:title>Introductory Cybercrime Training for Judges and Prosecutors</dc:title>
</cp:coreProperties>
</file>